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B34-FA1E-4932-9750-C871E081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87B-6B28-4415-ADA6-13EF86C0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1C6-9EA5-49A4-8497-B24BAC5B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D79-0FD3-4697-AB3D-B06D99FF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D0A-962C-4540-9496-415E80E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D2C-5B08-493F-BE6C-AF66AF41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578-786C-4041-8C9C-7CA278D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4C0-0728-40F1-9732-E553D5D6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2A1-A576-4F23-A3A9-914E0DF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74C-8020-4094-9D89-3222537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308-9D75-4DF3-9D26-86397E8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DE3-6A96-4150-8740-B5662C6C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93CA-E0E5-477B-A1E5-9D8B202468B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49280"/>
            <a:ext cx="89647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這一生最美的祝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在無數的黑夜裡 我用星星畫出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的恩典如晨星 讓我真實的見到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歌聲裡 我用音符讚美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的美好是我今生頌揚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4640"/>
            <a:ext cx="896472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這一生最美好的祝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就是能認識主耶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這一生最美的祝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就是能信靠主耶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走在高山深谷 祂會伴我同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這是最美的祝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17:33:14Z</dcterms:created>
  <dc:creator>USER</dc:creator>
  <dc:description/>
  <dc:language>en-US</dc:language>
  <cp:lastModifiedBy>USER</cp:lastModifiedBy>
  <dcterms:modified xsi:type="dcterms:W3CDTF">2006-10-21T18:32:11Z</dcterms:modified>
  <cp:revision>7</cp:revision>
  <dc:subject/>
  <dc:title>投影片 1</dc:title>
</cp:coreProperties>
</file>