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941-28A1-4540-B2AD-04FEB7A1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8BD-7D7A-4DAD-9F25-C3F6BE20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C79-8491-456B-929B-871C0396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76C-7706-424F-AEB9-B080F29D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7D9-B1B0-4705-9CDA-BFFDD923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A82-18F9-45A3-B7EC-7BAD2F0B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A7D-01D9-43F9-BA9A-53CDA89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EBC-4A62-41EB-B650-E4EB3848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54F-8483-43E7-9B11-265D2A3E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2C7-F346-4609-86F2-EAE693B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E49-7270-4041-8B33-07879C6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F06-99E9-4466-952E-6276A6A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6F8A-58C0-40AA-8529-2DB00B80813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20"/>
            <a:ext cx="845964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寶座前的敬拜</a:t>
            </a:r>
            <a:r>
              <a:rPr b="0" lang="zh-TW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進入祢至聖所 瞻仰祢榮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獻上馨香之祭 唯願天父喜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的榮光祢聖潔 我心愛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祢榮耀至聖名 配得讚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父 天父 榮耀的天父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(2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耶穌 耶穌 我心所愛慕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(2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4080"/>
            <a:ext cx="84596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眾天使屈膝 稱頌祢聖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至高者寶座前 生命活水湧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眾水揚聲歡呼 群山跪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潔榮耀奇妙主 昔在永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哉 聖哉 聖哉全能主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(2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榮耀 榮耀 榮耀神羔羊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(2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3:08Z</dcterms:created>
  <dc:creator>USER</dc:creator>
  <dc:description/>
  <dc:language>en-US</dc:language>
  <cp:lastModifiedBy>USER</cp:lastModifiedBy>
  <dcterms:modified xsi:type="dcterms:W3CDTF">2006-10-21T17:46:01Z</dcterms:modified>
  <cp:revision>16</cp:revision>
  <dc:subject/>
  <dc:title>投影片 1</dc:title>
</cp:coreProperties>
</file>