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CE4-1834-4069-8B70-D3D6E3D90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F665-C535-4D05-9D93-5C401CA5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9C8-22AC-4E55-AA72-79BDBF48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46A3-9D2A-449F-AAC7-93894A31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266C-A694-4C8B-A61B-F79CF42C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6B3B-EF98-4407-9132-F6FB8794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2A5-CE9C-4F75-A0C0-E7525F5F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102-BC7A-47B8-B64D-5C92E60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90A3-8732-4CD8-83E6-151C780B5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F7EA-B831-4CFB-BD04-537FD9D5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87F2-8E38-40DE-861C-224BA411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E7D-668E-4C43-A531-FBE0BF82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B480-7D2C-4532-886E-F1A948BCC7B8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-5760"/>
            <a:ext cx="878544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 u="sng">
                <a:solidFill>
                  <a:srgbClr val="ffcc00"/>
                </a:solidFill>
                <a:uFillTx/>
                <a:latin typeface="Arial"/>
                <a:ea typeface="標楷體"/>
              </a:rPr>
              <a:t>求主充滿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 我來尋求祢的面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求祢充滿我 來充滿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主我渴慕祢的同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求祢潔淨我 來充滿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 耶穌 耶穌 耶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的寶血洗淨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耶穌 耶穌 耶穌 耶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祢</a:t>
            </a: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以恩典為我冠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06:31:30Z</dcterms:created>
  <dc:creator>USER</dc:creator>
  <dc:description/>
  <dc:language>en-US</dc:language>
  <cp:lastModifiedBy>chris</cp:lastModifiedBy>
  <dcterms:modified xsi:type="dcterms:W3CDTF">2009-01-03T20:47:53Z</dcterms:modified>
  <cp:revision>19</cp:revision>
  <dc:subject/>
  <dc:title>投影片 1</dc:title>
</cp:coreProperties>
</file>