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56E-352E-4F0D-89C0-21BBD7A1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5F2-E416-402D-9A9A-1BDDA73C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6616-8B07-491A-841F-E307C848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4E5-B39D-4AEC-A09E-6F6E1DF9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4B9B8-F8B9-49BC-982C-A59549F78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45FDE-B209-455A-BDC2-86197FF5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A11C4-A11B-4E22-BDC8-97E1C959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AC61F-AB06-439B-B9FB-0A664DD4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8147F-1C93-430C-BBC0-048168EF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779C4-AC7E-46C1-8701-8FF99DF3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0323E-75B0-4F1A-B5C4-B1D1604A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EB9-68E6-47A1-8D62-AE1856A1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15484-B19F-4876-A501-1A9C9DDF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DBBC8-C50D-408C-A106-11B10A5B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69851-8B82-47A8-961B-D4C75F7F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89693-9ACC-4C24-A6B2-3B7C8101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3F836-51CC-4CCF-B473-BF9FAB29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BC29B-CAEC-401B-AAF9-650D854A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E6A3B-2104-4B20-9A2E-B692FA02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A521C-8116-4870-8599-228166C3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8CCD5-B5CE-48D0-A2C3-3A7280DB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F61A-0E56-4568-8F07-9E193D95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1F71-C623-4B41-AE65-F227F304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EB01-5A8B-470F-BDE4-ECF6C826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3962-AE5B-46C4-985F-DE4B26C9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AE9EA-66FA-4894-BA3D-3C945CD2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16DA7-C041-42A9-A7EA-8780EA0E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59F03-D89E-4A5E-990C-2F4B34CC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EE58E-15A2-4563-A330-BD026C33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92692-B3E4-4E44-9BB4-275C5C8C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2F34FE-E4A4-4B98-BBD8-901E3BF3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F38A6-54FB-41E0-8585-41E74F08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5FB627-70D6-45F9-A641-4349AC86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DB09-A7C2-4B65-B0A9-7E611F9F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24A6F-6F1B-4F5F-B4D4-31E85701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5BDC36-AE90-48E1-B7FF-BA5A84ED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E9D2F-0F59-4C07-B2D1-91A8A212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7B5866-92C8-4F87-848C-1CC7C0F3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B1FAF2-4747-4B1F-8ED0-48068100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902FE-9618-4A10-8FF8-B4DA57F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A9BA83-FCC0-4A68-B956-C53F5349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F1287-B05F-43D1-AFC2-EA8E48F6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0B611F-FB72-48F0-875E-B573366C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C069-6E4E-4721-B6E5-F6743CC1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34B-C6ED-45AC-90DC-89595D33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A9B-912E-49A0-A961-C9BE3835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64F-2B7B-4F9E-B5B5-6F488F0D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1D1-A062-4FC2-89F0-CD6F7CBC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17AD-B023-42C5-A754-88FDB90B9109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603C-429D-4B24-A876-A27F043B05C4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D4EC-5887-42C3-BF2B-39823B22AD80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1BB4-B82F-460A-866E-C5D34B9A0408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寶貴十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 我感謝祢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的身體 為我而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帶我出黑暗進入光明國度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使我再次能看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 我感謝祢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的寶血 為我而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533520"/>
            <a:ext cx="9144000" cy="56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寶貴十架上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醫治恩典湧流 使我完全得自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baseline="38000">
                <a:solidFill>
                  <a:srgbClr val="ffffff"/>
                </a:solidFill>
                <a:latin typeface="標楷體"/>
                <a:ea typeface="標楷體"/>
              </a:rPr>
              <a:t>* 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寶貴十架的大能賜我生命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主耶穌 我俯伏敬拜祢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寶貴十架的救恩 是祢所立的約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的愛永遠不會改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8-09-14T16:57:30Z</dcterms:modified>
  <cp:revision>26</cp:revision>
  <dc:subject/>
  <dc:title>Slide 1</dc:title>
</cp:coreProperties>
</file>