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692-9FC8-416B-B650-953153B7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717-8984-4BB6-8282-FE86E18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F65-A5A6-4678-A310-E82BEE01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E99-70D8-4F55-9742-3A0FC7B7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940-2B70-4EE7-8698-D60255F3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4FF-9247-4499-B99C-8D52803A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9DC-DABC-4254-B716-F7795BFC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A52-B202-4243-BE06-EC6A977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6AE-8029-454C-988C-AD63143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815-93DE-4838-A30E-599B800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BAA-986B-4013-AE90-E537CD5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2C9-3E63-4A10-A8D0-BCECE4D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595-6EB6-49EC-B492-B64E3406227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80080"/>
            <a:ext cx="86425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復興聖潔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求祢復興我 心中的聖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為造清潔的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重新有正直的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求祢復興我 心中的聖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將我分別為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作祢尊貴榮耀器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50480"/>
            <a:ext cx="8209080" cy="57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身體獻上當作活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一生作祢聖潔的器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生命獻上為祢而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為祢呼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將身體獻上當作活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一生作祢聖潔的器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一生傳揚基督的聖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USER</cp:lastModifiedBy>
  <dcterms:modified xsi:type="dcterms:W3CDTF">2006-03-18T17:33:12Z</dcterms:modified>
  <cp:revision>12</cp:revision>
  <dc:subject/>
  <dc:title>投影片 1</dc:title>
</cp:coreProperties>
</file>