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194-3E30-4336-B890-F54C6E98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689-2672-4B81-87DD-25D3638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BF9-5EB6-4BC6-893D-EAF32B12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059-481D-4125-99A7-7B68F3BC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B818E-ACDE-42F6-B4CD-B5A4D2D2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FF125-1009-481B-A06A-5DC1A6E1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D6D42-3B4D-4E41-B71D-50E77370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012D4-661D-41E4-B43E-61425A50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7B833-9A6F-4CE1-9A01-6F0B0721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88D9B-27BA-4C72-BA18-6561B5B5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CE3DC-7B9B-436A-8842-72D0454A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629-11BB-4134-A919-BCA74F2B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B3D76-BFF0-4D56-A289-8999CD0D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2C768-01F3-4610-8E17-80AC94D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92396-6954-4950-A1F4-6590787F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79310-CA6B-4E7F-BAA8-8D0641DC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DDC91-F7F5-452E-BBDB-ADA76E35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694-9951-4560-BA43-40896324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FC4-9CB3-4BDB-A001-B8D68895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7AC-1B2D-4D9E-9694-1D3D5F24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58C-CA9B-4A01-BD5D-699706AF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EB4-A312-4803-BFED-CC8AC3CE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BA2-73EE-4013-B281-21FB174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A4B-7194-4A7D-9FB8-943740C3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192B-D0F3-47AE-BB60-21E876D95BD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D69C-7622-44E8-86BE-CF4CD4546A65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79280" y="151920"/>
            <a:ext cx="8964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一生愛祢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親愛的寶貴耶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愛何等地甘甜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的心深深被祢吸引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愛祢是我的喜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228240"/>
            <a:ext cx="8964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新細明體"/>
                <a:ea typeface="新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一生愛祢  一生敬拜祢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一生愛祢  一生榮耀祢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一生奉獻  一生不回頭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一生愛祢　跟隨祢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43:14Z</dcterms:created>
  <dc:creator>ali1</dc:creator>
  <dc:description/>
  <dc:language>en-US</dc:language>
  <cp:lastModifiedBy>chris</cp:lastModifiedBy>
  <dcterms:modified xsi:type="dcterms:W3CDTF">2008-12-31T07:56:09Z</dcterms:modified>
  <cp:revision>14</cp:revision>
  <dc:subject/>
  <dc:title>Slide 1</dc:title>
</cp:coreProperties>
</file>