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5D7D-8B6A-42BD-B67B-82BB6A26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5C1-AB71-4488-984F-D3CDD675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EE48-F591-46C2-ABC1-9291B70D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B0D1-3113-4724-AF37-D4FDDE83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325-F01F-40BE-A474-81B55E7C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D9ED-2076-421D-925E-3FC13984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60EB-ABF5-48B4-B19E-B1A0C122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A1FC-2195-4585-94E4-1B756480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FF71-F279-4C1B-ADC3-D6389FD4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95E-24D8-487D-AEF6-F8BA18FF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311-028A-4A5F-8FE3-AC9F477B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617D-0E9B-4BBC-9D2C-BE9EAD5F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8CA5-107C-4C02-8F7F-ACFDD1857F3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383400"/>
            <a:ext cx="9648720" cy="64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0456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和散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和散那 和散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和撒那歸於至高處</a:t>
            </a:r>
            <a:br>
              <a:rPr sz="4800"/>
            </a:b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和散那和散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和散那歸於至高處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我們高舉祢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心中充滿讚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齊來高舉我神我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和散那歸至高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榮耀 榮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願榮耀歸萬王之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榮耀 榮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願榮耀歸萬王之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我們高舉祢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心中充滿讚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齊來高舉我神我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願榮耀歸萬王之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03:10:13Z</dcterms:created>
  <dc:creator>USER</dc:creator>
  <dc:description/>
  <dc:language>en-US</dc:language>
  <cp:lastModifiedBy>Amy</cp:lastModifiedBy>
  <dcterms:modified xsi:type="dcterms:W3CDTF">2010-03-24T15:55:05Z</dcterms:modified>
  <cp:revision>36</cp:revision>
  <dc:subject/>
  <dc:title>投影片 1</dc:title>
</cp:coreProperties>
</file>