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920" y="0"/>
            <a:ext cx="867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獻上活祭</a:t>
            </a: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心切切渴慕祢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緊緊跟隨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 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恩典與慈愛永無止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信實直到永遠 我王我的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祢奇妙聖名 獻上我的讚美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8288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副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) 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耶穌，主耶穌，求用我一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    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耶穌，主耶穌，求用我一生</a:t>
            </a: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04920"/>
            <a:ext cx="914400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心深深向祢敬拜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靈渴慕祢榮光</a:t>
            </a:r>
            <a:br>
              <a:rPr sz="4800"/>
            </a:b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  我完全相信祢寶貴應許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在祢懷中安息 </a:t>
            </a:r>
            <a:br>
              <a:rPr sz="4800"/>
            </a:b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  要向世人歌唱祢的恩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直到我見你面 </a:t>
            </a: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75640" cy="32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副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) 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耶穌，主耶穌，求用我一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    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耶穌，主耶穌，求用我一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Amy</cp:lastModifiedBy>
  <dcterms:modified xsi:type="dcterms:W3CDTF">2009-08-07T00:50:05Z</dcterms:modified>
  <cp:revision>10</cp:revision>
  <dc:subject/>
  <dc:title>Slide 1</dc:title>
</cp:coreProperties>
</file>