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95771-C567-442D-88ED-72FA313F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58C4-2EEA-4260-B10C-0FE938FE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28A07-0439-49FD-85E3-F4A679CF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31308-7F69-48B0-9EB3-2D4CCF0F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8E72-6308-495D-9D2B-E8BEB4B8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2AEB-6D52-4470-8490-3CD2643A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6E0F-ECEC-4F06-BA93-CA4AB02F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F39D-C69C-4380-900C-8DFA59DC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8DC5-847E-43DA-9F40-FE535C1E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ADAE-6A80-4F76-82FF-9053D32E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3FA4-8360-46F0-BB8C-BE47102F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96453-A500-45FE-8E63-1604E0C0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FE29-EC53-42EE-A785-FA6EC65B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78FF-9D85-46AB-9857-6ECD491D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DE6A-4FC1-47FD-85D9-BF1BEAAA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4E17-D53A-4005-BCB6-B32C26B6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C407-E721-4ADF-BECC-B3397159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2A6A6-85A8-4C07-93A9-945EFDBD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93D86-E10E-48E8-9548-641FC2A6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7DF28-8D62-41B0-8008-F9D69C13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EC6AF-A6B2-436E-995A-02C8680B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F3BE9-C68F-4240-B7DA-375E34F5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5A6A-59D3-4DC4-B0AD-E856291C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5FADA-7357-41A2-8DD3-969BB0CF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8655-B167-4459-ABFE-8EA029F975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E5F1-E781-460C-938B-0030CEBF82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田 中 的 白 鷺 絲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,  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無 欠 缺 什 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Birds in the blue sky,  Soaring with their win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山 頂 的 百 合 花 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春 天 現 香 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Lilies on the hill side,  Blossoming with their smil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總 是 全 能 的 上 帝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, </a:t>
            </a:r>
            <a:r>
              <a:rPr b="1" lang="zh-TW" sz="2400" spc="-1" strike="noStrike">
                <a:solidFill>
                  <a:srgbClr val="ffffff"/>
                </a:solidFill>
                <a:latin typeface="Futura Lt BT"/>
                <a:ea typeface="新細明體"/>
              </a:rPr>
              <a:t> </a:t>
            </a:r>
            <a:r>
              <a:rPr b="1" lang="zh-TW" sz="2400" spc="-1" strike="noStrike">
                <a:solidFill>
                  <a:srgbClr val="ffffff"/>
                </a:solidFill>
                <a:latin typeface="Futura Lt BT"/>
                <a:ea typeface="新細明體"/>
              </a:rPr>
              <a:t>每 日 賞 賜 真 福 氣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Telling power of almighty God,  Blessing with daily bre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使 地 上 發 芽 結 實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,  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顯 出 疼 愛 的 根 據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Granting with harvest, Showing His unfailing lo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553120" y="152280"/>
            <a:ext cx="3701160" cy="856080"/>
            <a:chOff x="2553120" y="152280"/>
            <a:chExt cx="3701160" cy="856080"/>
          </a:xfrm>
        </p:grpSpPr>
        <p:sp>
          <p:nvSpPr>
            <p:cNvPr id="101" name=""/>
            <p:cNvSpPr/>
            <p:nvPr/>
          </p:nvSpPr>
          <p:spPr>
            <a:xfrm>
              <a:off x="2594160" y="152280"/>
              <a:ext cx="3592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cc00"/>
                  </a:solidFill>
                  <a:latin typeface="Garamond"/>
                </a:rPr>
                <a:t>満満福祝華和耶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53120" y="609480"/>
              <a:ext cx="370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Futura Lt BT"/>
                </a:rPr>
                <a:t>Johovah’s Blessings Aboun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90360" y="9903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耶 和 華 祝 福 滿 滿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,  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就 像 海 邊 土 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Blessings overflow my cup,  More than sands in the sea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恩 典 慈 愛 直 到 萬 世 代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Abundant grace and love till gene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我 要 舉 手 敬 拜 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I lift up my hands to Him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出 歡 喜 的 歌 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Singing joyful than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讚 美 稱 頌 祂 名 永 無 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Praise be to Jehovah forever mor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553120" y="152280"/>
            <a:ext cx="3701160" cy="856080"/>
            <a:chOff x="2553120" y="152280"/>
            <a:chExt cx="3701160" cy="856080"/>
          </a:xfrm>
        </p:grpSpPr>
        <p:sp>
          <p:nvSpPr>
            <p:cNvPr id="105" name=""/>
            <p:cNvSpPr/>
            <p:nvPr/>
          </p:nvSpPr>
          <p:spPr>
            <a:xfrm>
              <a:off x="2594160" y="152280"/>
              <a:ext cx="3592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cc00"/>
                  </a:solidFill>
                  <a:latin typeface="Garamond"/>
                </a:rPr>
                <a:t>満満福祝華和耶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53120" y="609480"/>
              <a:ext cx="370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Futura Lt BT"/>
                </a:rPr>
                <a:t>Johovah’s Blessings Aboun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06:23Z</dcterms:created>
  <dc:creator> </dc:creator>
  <dc:description/>
  <dc:language>en-US</dc:language>
  <cp:lastModifiedBy>chris</cp:lastModifiedBy>
  <dcterms:modified xsi:type="dcterms:W3CDTF">2009-04-01T06:31:40Z</dcterms:modified>
  <cp:revision>4</cp:revision>
  <dc:subject/>
  <dc:title>耶和華祝福滿滿 (1/2) [Jehovah’s Blessings Abound]</dc:title>
</cp:coreProperties>
</file>