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C67-0C75-4BDE-AE13-849F7426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E33-BBAE-48AD-A76F-38531B27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B52-DAAB-4B32-8954-6BDC17CD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5DC-EC17-45BC-B41B-F6546E93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0043-6E5F-492B-9B05-7E7CFAB2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46C91-4CDC-42C1-B824-38038BE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4D327-1BA2-4082-93EF-3661FAE1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57019-0219-4038-9FFE-59855061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E874B-C72F-424A-9BFE-16F01C62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E8DDB-0863-4190-A397-350DD9AF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0E48-36E7-44E1-87D0-0FEE4E70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1FA-192A-43BB-8B08-DAE9A2B9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54E1-F5AE-418B-868E-CE042A7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F4E8D-EF8A-42B0-9FDA-709D1576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02680-AD4D-4EE3-8674-73F127A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84EE8-0500-4A30-ACF9-DEE35248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45EEA-88C4-4A4D-B50F-E01A95A7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F47-E700-48C4-925E-A995745D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C7B-32FD-4E48-861C-F190439A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E26-E7B9-436C-A469-061A671B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48E-6B22-4F32-BECF-A65CE3E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AC4-3FDA-4851-97C6-BF11AD8A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A08-A8B9-4656-806E-EA3B6F6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565-65FB-4232-A23F-3A5C947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940-6D12-4399-A07D-7F7A6B99718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CE3-F0D2-4ED6-843A-974443B84A8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52280"/>
            <a:ext cx="890424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敬拜頌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到聖殿來一起敬拜上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得救蒙恩稱為神的兒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要心意合一齊唱新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頌讚主的救恩妙愛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是救贖主 是生命之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是我依靠 是世上真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380880"/>
            <a:ext cx="852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尊貴和頌讚都歸與我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仰望信靠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今來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讓我們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457200"/>
            <a:ext cx="8599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們聚在一起敬拜頌主聖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祢是耶和華永遠不改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生命之道和真理的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毫無瑕疵最完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我們今來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讓我們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280"/>
            <a:ext cx="890424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哉聖哉聖哉全能大主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清晨我眾歌聲上達至高之神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聖哉聖哉聖哉充滿憐憫和權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稱頌與尊崇歸三一上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52280"/>
            <a:ext cx="89042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我們今來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阿利路亞讓我們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讓我們敬拜讓我們敬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讓我們敬拜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9-03-04T22:57:19Z</dcterms:modified>
  <cp:revision>48</cp:revision>
  <dc:subject/>
  <dc:title>Slide 1</dc:title>
</cp:coreProperties>
</file>