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334-6E2B-47B9-B2F7-D3EEC81C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AA4-EA67-4213-BE94-5DE6935D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1B8-9FC4-4820-8F23-F7051F18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6C61-7FED-4DD9-AE3F-D59DF56A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243D-C52A-4E15-B8E2-CC73AE0C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3B8-33B7-4540-B14D-8D04CC3D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5D3-51B0-43D7-91D0-0A30DA1A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112-3640-4287-8AD8-05420E8A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54A-F20B-4D27-B4E3-0B1380BA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D25-D689-4C6F-B5D9-6371D583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BA3-50AF-4B46-9E96-29CC67E1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CC3-D2ED-4361-BB09-AF48A283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4F97-1645-4FC0-8B01-A5210A6B859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40120"/>
            <a:ext cx="896472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我的救贖者活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知道我的救贖者活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是永活的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當我在深谷迷失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領我走正義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92280"/>
            <a:ext cx="89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知道我的救贖者活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是永活的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當我在曠野孤獨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伴我作我的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9228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知道我的救贖者永遠活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不再憂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要在每一個日夜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領受祂的豐盛之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765000"/>
            <a:ext cx="89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知道我的救贖者永遠活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靈不再沉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當號角聲響起的那一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將見祂榮光之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9T17:33:14Z</dcterms:created>
  <dc:creator>USER</dc:creator>
  <dc:description/>
  <dc:language>en-US</dc:language>
  <cp:lastModifiedBy>USER</cp:lastModifiedBy>
  <dcterms:modified xsi:type="dcterms:W3CDTF">2009-02-08T05:57:48Z</dcterms:modified>
  <cp:revision>10</cp:revision>
  <dc:subject/>
  <dc:title>投影片 1</dc:title>
</cp:coreProperties>
</file>