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0F2-3F15-47F5-9ADC-5F80128B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C20-B1B4-4610-A696-4EFD4CAB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B6E-1755-46F4-AEB0-5B5B98D8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32C-0217-4A7B-9412-FC13C67D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BDA78-2C16-4ADF-8E1A-DAF3D70E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3506F-BE97-45DA-8512-2224A089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ADD10-5C51-4F16-9ED6-0803065C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33757-C24D-4673-B450-9C2DA9E9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107A1-0240-4932-B5DA-37C68A8F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91607-C855-422C-BA55-89929165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A7A9C-875A-4A3C-BCB5-0598A9A5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4F0-655E-455C-BE3C-484F3071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40738-EE00-439B-9D3F-85863056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10AE4-6664-4FCE-851D-91C5D90C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19BF9-69C2-4E16-9FBB-4B8A8E89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38428-FAAE-44B7-B774-708EFA58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772C9-8940-491F-8F05-F8160A8A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4BD-36C7-4FD3-A80C-2ED86965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274-60D8-47C7-96EC-5A350CFC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721-AC6D-4200-8D0B-7E008026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5CA-646E-4C53-90C9-713FB452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953-22F9-4AB3-8E31-F4C7574D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50F-68BD-43D3-B5C9-F214A7E9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6E5-D89E-4023-B2A7-D3DCCAB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E756-BC50-494C-94A8-15951B6D3A7C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EA00-BFFF-4E6A-B02D-E601DAA8991D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304920"/>
            <a:ext cx="86756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坐在寶座上聖潔羔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ahoma"/>
                <a:ea typeface="標楷體"/>
              </a:rPr>
              <a:t>坐在寶座上聖潔羔羊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ahoma"/>
                <a:ea typeface="標楷體"/>
              </a:rPr>
              <a:t>我們俯伏敬拜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ahoma"/>
                <a:ea typeface="標楷體"/>
              </a:rPr>
              <a:t>昔在今在以後永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ahoma"/>
                <a:ea typeface="標楷體"/>
              </a:rPr>
              <a:t>唯有你是全能真神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83808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ahoma"/>
                <a:ea typeface="標楷體"/>
              </a:rPr>
              <a:t>坐在寶座上聖潔羔羊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ahoma"/>
                <a:ea typeface="標楷體"/>
              </a:rPr>
              <a:t>我們俯伏敬拜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ahoma"/>
                <a:ea typeface="標楷體"/>
              </a:rPr>
              <a:t>頌讚尊貴榮耀權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ahoma"/>
                <a:ea typeface="標楷體"/>
              </a:rPr>
              <a:t>都歸給你直到永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808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萬王之王 萬主之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唯有你配得敬拜和尊崇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萬王之王 萬主之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高舉你聖名直到永遠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 X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chris</cp:lastModifiedBy>
  <dcterms:modified xsi:type="dcterms:W3CDTF">2009-01-11T23:07:00Z</dcterms:modified>
  <cp:revision>19</cp:revision>
  <dc:subject/>
  <dc:title>Slide 1</dc:title>
</cp:coreProperties>
</file>