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13A-1603-4505-95F1-2FA376DB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455-ABF4-400C-BD57-2264C0CF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39B-8F67-4F4E-9177-EEE2BDA3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7A9-4273-4AF6-AD62-67AD940F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7744A-8134-4D6E-9658-558BC8F7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C4329-C1A8-4D85-A67C-5C84DB21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E8DE9-E20A-4C29-9DB0-BCE06466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846AB-C30B-4CBA-9117-96D39CEB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8F056-A8BA-4BC0-AB29-6AD80E2A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91BC2-0603-466C-AE04-A911BB9F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7D34C-830F-4B88-8A23-6DBDDAFB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926-E1C8-4A23-BF4C-A4E999A1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568E1-1894-4823-AA82-4D111EA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63BC6-47F3-4125-B109-A4DED09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C5C33-ADA4-44FE-99B3-807335C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6DCBB-9C41-4960-B247-751BAD9F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B4AF3-1E11-4AA0-8528-89266007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0B9-15C1-4AD3-AC06-45235E6C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177-72A9-4D01-B8BC-11C24BE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F15-26FD-4D94-995F-11A46960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5AF-3ACC-4980-A55E-B7029013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8EF-52AC-4598-9AB8-30E97A66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2D9-3172-460F-99EB-38937DF8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F2A-B5A3-49FA-90F3-621A31A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6130-8B65-4702-90C2-4E89CA12DEF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4FD0-DEBC-4B27-9AC1-4A8E030CBD65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願祢榮耀國度降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 我們謙卑屈膝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來跟隨祢的話語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萬民中作祢的子民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 我們謙卑屈膝，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定意為聖潔國民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萬國中宣揚</a:t>
            </a:r>
            <a:r>
              <a:rPr b="0" lang="ja-JP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聖名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280" y="522000"/>
            <a:ext cx="90997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願祢榮耀國度降臨我們中間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聖靈降下焚燒眾人心靈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復興我們為失喪靈魂代求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悔改祢寶座前 同心合意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剛強壯膽往普天下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25480" y="442440"/>
            <a:ext cx="58132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＊ 願祢榮耀國度降臨我們中間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聖靈降下焚燒眾人心靈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復興我們為失喪靈魂代求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建立祢的教會 傳揚福音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願祢榮耀在全地彰顯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8-09-13T05:29:39Z</dcterms:modified>
  <cp:revision>36</cp:revision>
  <dc:subject/>
  <dc:title>Slide 1</dc:title>
</cp:coreProperties>
</file>