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19D-8FE5-44D1-A43E-5F7A7A76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41B-FFE8-44E5-9F86-B904A843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CA2-060D-4B2F-913B-2C2995E5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8E8-8927-485C-99C0-183B33DF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1EC-B8D2-4689-A96D-630779A7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FE4-0EB1-4910-A553-A8B777D7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AE8-DB56-4B8C-8A6C-43E74A2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02D-A07A-4371-A49E-DF2B78EA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DA5-DA49-4305-A0FD-94D18B28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750-E04C-4613-AB6B-06FB84B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3F6-5235-4B51-80CA-9A13E9B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BF5-0610-4E96-87A4-5787D26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FFA-1E12-4AFA-BEAA-3B69ED18D76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7440"/>
            <a:ext cx="9144000" cy="63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耶穌是我親愛牧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是我親愛牧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親手引領我前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祢歡樂草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靠近你身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慈愛救主慈愛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靠近你身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慈愛救主慈愛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靠近你身旁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89000"/>
            <a:ext cx="9144000" cy="59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是我最好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導我天路慰我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縱迷路祂來尋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引導羊群免走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慈愛救主慈愛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祢常聽我祈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慈愛救主慈愛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祢常聽我祈求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9000"/>
            <a:ext cx="9144000" cy="59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讓我趁早討祢歡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樂意遵照祢旨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願主恩愛滿我心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願獻身歸主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慈愛救主慈愛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愛我們直到永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慈愛救主慈愛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愛我們直到永遠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1:42:46Z</dcterms:created>
  <dc:creator>USER</dc:creator>
  <dc:description/>
  <dc:language>en-US</dc:language>
  <cp:lastModifiedBy>USER</cp:lastModifiedBy>
  <dcterms:modified xsi:type="dcterms:W3CDTF">2007-11-25T07:57:26Z</dcterms:modified>
  <cp:revision>14</cp:revision>
  <dc:subject/>
  <dc:title>投影片 1</dc:title>
</cp:coreProperties>
</file>