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BAE-1DFA-4444-8D16-F27B7FD7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97E-F919-4039-82FB-384AE787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6C9-895D-4208-BD36-B0C6D702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D11-56FF-4C70-97AB-17C5B3BB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7DB1-2809-49DE-8B0B-191DA8BF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65406-E2AB-46D3-9DF4-D9FD846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B5F2-13E5-426B-A462-7C586A8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5C9AF-9D01-4A18-9B14-9183B26F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C392F-245D-4A8C-A64E-2B6F0AA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335D-BABC-46B6-A166-973E11B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FDA8-76FF-46A0-93D7-1528CF5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353-AAE6-4A79-8034-AFBAC5B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B5C2-814D-4A34-988B-C9DBCBD3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6C1B-67E3-423B-B9A4-B9E903F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A6967-D2BE-4C92-83E7-625C2233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49EFE-8C85-4550-AA49-ABD94E2C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C49A-F652-48FF-8551-B2B7ECA4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ABE-051B-4008-85E9-3DDEAB6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64E-07B2-44C7-9934-864B85F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FCE-A802-43C3-AB27-2B5D1B08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EBE-9745-4A07-9681-38FEDEB4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DE2-AE38-46F2-823D-ABC13D3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C22-18C9-4CA5-8594-4353848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613-11D4-4C88-BC6D-F2301E5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7ED0-5FA1-4F07-98A9-8630837A3DE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4AC5-854C-4C45-A719-A0D18B05F7D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304920"/>
            <a:ext cx="8675640" cy="53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我對祢的愛永不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ff"/>
                </a:solidFill>
                <a:latin typeface="Tahoma"/>
                <a:ea typeface="標楷體"/>
              </a:rPr>
              <a:t>祢</a:t>
            </a: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開了我的耳我的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的嘴將稱頌祢到永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ff"/>
                </a:solidFill>
                <a:latin typeface="Tahoma"/>
                <a:ea typeface="標楷體"/>
              </a:rPr>
              <a:t>祢</a:t>
            </a: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的意念高過我的思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如同天高過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371600"/>
            <a:ext cx="838224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*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全地都要來讚美祢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跪拜祢面前稱頌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山雖動搖 地雖改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對祢的愛永不變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9-03-05T00:11:11Z</dcterms:modified>
  <cp:revision>21</cp:revision>
  <dc:subject/>
  <dc:title>Slide 1</dc:title>
</cp:coreProperties>
</file>