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701-5D42-4018-91D6-7BDD798A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455-6C04-4BF0-A98E-9C47A040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446-E72F-4196-86B5-68C39FA8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107-F6C2-4023-84DF-E6A508A5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D6504-C9F9-4A73-8C1F-536EB858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7227-7572-4BD2-ACE7-4D3AC6A3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1E108-CC7B-4FF0-A0DF-4756C07E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29F39-2277-4EDC-89A5-03DF811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93FF6-B30E-467E-9B11-D2F7BC2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C56F3-DFBF-4507-B94C-C5842957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D14CB-848E-4895-A174-32ACFF8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935-A52C-4BB9-BD27-19C48AF8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1B469-C70A-415E-AD23-824BF59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1D50-93BA-498C-8517-AB22467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C362-7AF5-43A8-A7ED-B146CBB3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0ECF3-3102-4110-9D08-D788142D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98A6-D91B-4BF4-A521-485D02E7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BD6-3010-4E47-8A7F-7D588257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04C-B8D0-4683-AC6B-DAA0960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4F4-6081-41CE-B127-9ECDE2AC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22C-5C3B-4A3E-A290-09F9BDD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2DC-292A-43A4-8655-D7EF27C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7C7-F1D9-4B49-B971-9428CB1B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DCE-B643-430A-9080-B18C9FC0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BE97-9445-4F33-A133-7784E5C37F3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E705-311C-4926-AB1A-4B9AC7D96B0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88120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全能的創造主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使天空絢麗 大地富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命江河湧流 群山復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使百鳥歡唱 百花盛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賜生命綿延命令萬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8920" y="228240"/>
            <a:ext cx="88124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★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  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哈利路亞 全能的創造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哈利路亞 萬國萬民都向祢跪拜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崇山峻嶺向祢 屈膝敬拜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江河湖海為祢 翩翩起舞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諸天穹蒼傳揚 祢的榮耀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日月星宿向祢揚聲歡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★</a:t>
            </a: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標楷體"/>
              </a:rPr>
              <a:t>  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哈利路亞 全能的創造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哈利路亞 萬國萬民都向祢跪拜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我心讚美祢 永遠讚美祢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一生要讚美那偉大的創造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43:14Z</dcterms:created>
  <dc:creator>ali1</dc:creator>
  <dc:description/>
  <dc:language>en-US</dc:language>
  <cp:lastModifiedBy>USER</cp:lastModifiedBy>
  <dcterms:modified xsi:type="dcterms:W3CDTF">2006-10-21T18:15:07Z</dcterms:modified>
  <cp:revision>18</cp:revision>
  <dc:subject/>
  <dc:title>Slide 1</dc:title>
</cp:coreProperties>
</file>