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689-F72E-4445-8B63-C96D0FF5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AE36-6324-4DCB-AC89-A516D803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D69-E3FD-4AC9-88BA-89755270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41F-627F-4630-97BA-A66A07D6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68E-821F-4B92-BB0A-3B79C62F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FBC-F4BC-480D-932E-12789979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E8B-2E23-4ABC-9DE6-B8E0CB8B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D29-35CA-4702-A040-8183F4DD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5F5-B743-4E06-8B23-B5DF0198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877-09E7-495F-B4C9-1EF49870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61C-E71E-4656-8178-2260FECA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89E-39F0-4445-AB52-C4E9D62D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FADA-D652-4109-A92E-9142C0BC523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83520"/>
            <a:ext cx="91440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主我願單屬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的主我心愛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的主我渴慕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是祢愛來吸引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使我心單單愛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22920"/>
            <a:ext cx="91440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哦 耶穌 我需要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煉淨我 完全屬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願祢愛來摸著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使我心全然屬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3:27Z</dcterms:created>
  <dc:creator>USER</dc:creator>
  <dc:description/>
  <dc:language>en-US</dc:language>
  <cp:lastModifiedBy>USER</cp:lastModifiedBy>
  <dcterms:modified xsi:type="dcterms:W3CDTF">2007-03-17T06:39:41Z</dcterms:modified>
  <cp:revision>16</cp:revision>
  <dc:subject/>
  <dc:title>投影片 1</dc:title>
</cp:coreProperties>
</file>