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E3A-4DE3-496C-940F-8F6A400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6E5-0655-4D9D-A9B4-8CFC4A3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67D-1BD0-4162-9727-13654511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184-AA85-418B-BF08-858D8E58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538-1039-4984-A97B-DFA344F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887-CACD-4024-912B-3246A105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1F0-4C77-43CB-AF96-EC178A09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99D-7725-48DE-A4DF-373590E6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FAD-10FE-4C6F-BC12-3E6E891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BC8-0094-40E6-A076-B0A9517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D16-1170-443C-8067-F9DFFC7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77D-2A77-4E00-9AC6-5888A6C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C52-E34A-4B37-9B88-08D12C8C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標楷體"/>
              </a:rPr>
              <a:t>奇妙的雙手</a:t>
            </a: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曾有一雙手    叫盲者重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生命見光煥然一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祂奇妙的手   常撫慰著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2B3-B72F-4A69-8630-C29248CD9C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雙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1D1-F632-411C-91DA-6CE06F57AF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 你那奇妙的雙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慈愛的雙手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雙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B8E-FBFD-4FD7-A49C-846AD2773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你的言語   是我的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相信者必得著醫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主醫治了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643-BDF2-442D-957D-E4B8D186C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話語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80F-FE95-40C7-B494-F306A8AA2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奇妙的話語，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你那慈愛的話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話語    讓我又得著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話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38F-9E55-4B29-B608-8270A16048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的寶血   把我拯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捆綁者完全得釋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衪奇妙寶血    把我拯救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領我走向光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59C-836D-496A-8C54-1F921515F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讓我又得著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寶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8DD-A16E-41B8-85CC-62E613866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 你那奇妙的寶血，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哦！主！ 你那慈愛的寶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妙的恩典   讓我又得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美好的新生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我永遠歌頌   我永遠讚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你那奇妙的寶血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5CF-B4A9-41BC-8C48-BF8991BA9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0:20Z</dcterms:created>
  <dc:creator>USER</dc:creator>
  <dc:description/>
  <dc:language>en-US</dc:language>
  <cp:lastModifiedBy>chris</cp:lastModifiedBy>
  <dcterms:modified xsi:type="dcterms:W3CDTF">2009-01-03T22:03:27Z</dcterms:modified>
  <cp:revision>109</cp:revision>
  <dc:subject/>
  <dc:title>投影片 1</dc:title>
</cp:coreProperties>
</file>