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805-ACB6-4F33-B5E8-5BA3CDAB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255-D697-4B46-9AD1-C8B5FAAE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BEB-10C1-40B7-B4B4-2D6654F6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B9A-F98D-4D93-8B27-DC98BA42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A0C-F9F8-4BB0-AC55-66204D9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4A7-1B8D-4446-9775-4F711F48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4E0-05BE-4503-BFBF-7E459D19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3A0-1A54-44DA-A5FC-13F87F1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032-8BDA-4CB7-9BE1-1426A025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BC0-6D3B-426B-9212-8C6CF57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3A3-3D5A-4DDF-B058-42709B9A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9B2-C2DB-4834-AD2B-AC08938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5892-6A01-448C-8799-344937FFB1D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3600"/>
            <a:ext cx="896472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因著十架愛</a:t>
            </a: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祢的身體為我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寶血為我流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誠然擔當我的憂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定意背負我的痛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6021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生命河靈糧堂傳播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1840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受鞭傷我得醫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受刑罰我得平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我回轉到你面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經歷醫治和平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6021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生命河靈糧堂傳播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2464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醫治和平安  因著十架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罪得赦免  因著十架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著十架愛  因著十架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我得潔淨  因著十架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6021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生命河靈糧堂傳播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06:31:30Z</dcterms:created>
  <dc:creator>USER</dc:creator>
  <dc:description/>
  <dc:language>en-US</dc:language>
  <cp:lastModifiedBy>Grace Chang</cp:lastModifiedBy>
  <dcterms:modified xsi:type="dcterms:W3CDTF">2008-04-09T23:27:27Z</dcterms:modified>
  <cp:revision>18</cp:revision>
  <dc:subject/>
  <dc:title>投影片 1</dc:title>
</cp:coreProperties>
</file>