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11B9-FB89-4787-92EA-4F0F3E27E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3D82-8A1C-4E8A-B40F-D902AB823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61CD-C3FB-4FDB-980D-C063D0138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44E1-09EB-4C4E-A497-BC9E32668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342E5D-AA09-40A2-9A7E-C6C358E0A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1CFE19-3E1D-4466-B291-E9A0DB619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166070-1E3E-4C44-950D-DC00B4D47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5D4E35-C0D3-4B92-AD1A-2107E55DF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9D8BB7-9503-4CA8-9951-6EA923A14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7B753C-8425-4DFD-9C7F-9E50887D6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D435B4-FB5A-4737-9D95-909406EA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09A4-1D7F-4195-ADDF-279A2C8C1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920A91-1E2F-48BD-B435-857039419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6A1CFA-8121-4030-9908-B9BC6528E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42141A-37E7-4584-B456-391DCA978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79C069-A9B4-4ED7-84AB-A9D8DA0CD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27DC6D-A12E-4D53-A210-A82CBF2FD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9FED-FC4F-4CA7-9A93-26A50B32B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8850-8E86-495B-BA33-8EF80FDAB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65B4-E207-4BDF-B010-5C6C55D41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BD55-4046-4105-B5E1-E441A2CD6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97E6-A926-4E79-A6E8-16EC78F09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CF3C-DFB2-43F6-AA09-F8C3D023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4C7B-51FB-434B-9E5A-3947ABF8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5256C-10EB-4729-A357-AA1C9B0ACEA7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C2F14-7A33-4A1E-9F95-532E2EC9B3C1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228600"/>
            <a:ext cx="914400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 u="sng">
                <a:solidFill>
                  <a:srgbClr val="ffcc00"/>
                </a:solidFill>
                <a:uFillTx/>
                <a:latin typeface="Tahoma"/>
                <a:ea typeface="標楷體"/>
              </a:rPr>
              <a:t>恩典夠用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Tahoma"/>
                <a:ea typeface="標楷體"/>
              </a:rPr>
              <a:t>當我受特殊試煉和痛苦時候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Tahoma"/>
                <a:ea typeface="標楷體"/>
              </a:rPr>
              <a:t>主耶穌就告訴我恩典夠用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Tahoma"/>
                <a:ea typeface="標楷體"/>
              </a:rPr>
              <a:t>每當我灰心失望完全無助的時候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Tahoma"/>
                <a:ea typeface="標楷體"/>
              </a:rPr>
              <a:t>主耶穌就告訴我恩典夠用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228600"/>
            <a:ext cx="9144000" cy="50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信息進入我心中 聖靈在指引我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在百般試煉中當大喜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為祂已告訴我 祂的恩典夠我用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ff"/>
                </a:solidFill>
                <a:latin typeface="標楷體"/>
                <a:ea typeface="標楷體"/>
              </a:rPr>
              <a:t>只要信祂的恩典是夠我用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9T08:55:16Z</dcterms:created>
  <dc:creator>ali1</dc:creator>
  <dc:description/>
  <dc:language>en-US</dc:language>
  <cp:lastModifiedBy>chris</cp:lastModifiedBy>
  <dcterms:modified xsi:type="dcterms:W3CDTF">2009-01-02T01:21:13Z</dcterms:modified>
  <cp:revision>11</cp:revision>
  <dc:subject/>
  <dc:title>Slide 1</dc:title>
</cp:coreProperties>
</file>