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6C7-B5AA-4FF4-B308-A9FB045B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EAE-54CD-4A4B-B422-0FA0A0DB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6EC-8A1B-40F1-B01E-D949C77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36C-2ED6-43F9-B6AD-1C821D6B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B4C6-7A31-4488-8111-7E3B02A6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F5B1C-FC6E-4CA6-AFDC-AA8F3EB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6DB75-861E-44CF-9BC2-B6723F90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F3B8D-494D-4E7E-967C-521B688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EC1B9-19CC-4D70-88BD-9549E10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38DCF-5002-4561-B027-DE86F2D1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C27D-5053-4713-B1F3-135F26B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8BC-9F03-46A9-87C6-5E1C912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42A3E-C1AA-4480-BE51-F70FEEB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AA87-14F5-4D64-85BC-5107B3E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028D-1402-4A8A-B06A-42475E6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AB8D0-190F-4D8A-9531-775D3F6C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55771-B4CF-4EE9-8B20-F02CC1E8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C88-168C-46A9-837B-99AC434F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2A3-BE06-464E-B11E-D087721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9AB-3B33-4658-A6E7-3CF20931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F7C-6554-4390-B33D-FD3DA74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0FC-17EC-482B-8B6C-36038C0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0CD-91FD-4131-99C8-86AA6EB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2A9-145F-4024-ADC3-0556C81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1FD1-0867-41CA-8D16-25EDAAEB3D0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0781-71E4-47D4-8767-8DCAB207237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永不改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何等珍美 榮耀消息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者得體驗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昨日今日 直到永遠 耶穌不改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仍樂意拯救罪人 扶弱濟危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安慰傷心 平息風浪 榮耀歸主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昨日今日直到永遠 耶穌不改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地縱變 主卻依然 榮耀歸主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名 榮耀歸主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地縱變 主卻依然 榮耀歸主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主耶穌 罪人良友 尋我失喪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罪人請來 俯伏主前 認罪必得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日主權 顯在今天 主言具安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也不定你的過犯 不要再犯罪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昔在世 曾顯大能 醫治人病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至今依然 主言一出 憂傷病痛除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日婦人一摸主衣 即時得痊癒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今日因信接主恩典 病苦立除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昔曾往 以馬忤斯 同走有門徒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今主偕我一生路程 不離我寸步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久將見主再顯現 得與主同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還是昔日升天救主 從天再回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43:14Z</dcterms:created>
  <dc:creator>ali1</dc:creator>
  <dc:description/>
  <dc:language>en-US</dc:language>
  <cp:lastModifiedBy>USER</cp:lastModifiedBy>
  <dcterms:modified xsi:type="dcterms:W3CDTF">2007-06-16T17:45:01Z</dcterms:modified>
  <cp:revision>19</cp:revision>
  <dc:subject/>
  <dc:title>Slide 1</dc:title>
</cp:coreProperties>
</file>