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83B-7339-4F17-8669-2E1D2949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349-EF42-44D7-8F91-E7BF2921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B0FF-F31A-4E28-8002-75C5832B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303-7E54-4884-9337-6CDA7B1B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46B-C76A-4B7B-A514-7286F693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EA28-DC42-4264-9162-3E321E06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D9C-3392-4459-B973-042434CB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ADA-40BC-442D-87A1-252CC9CB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CBC8-AA4E-4A44-850D-6097DB8F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4170-EC42-4E3F-8B3C-7276E05C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A727-8643-48F0-ABA8-C48E5C27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AF9-4823-4AE4-B53D-6A88209D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C405-341F-48F2-89ED-CD1031EAD8E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54080" y="162360"/>
            <a:ext cx="6585120" cy="59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我相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相信 你的應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相信你的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相信你的真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相信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(x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76280"/>
            <a:ext cx="914400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所以我來為要愛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所以我來為要敬拜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你在我身作為可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一生敬畏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33360"/>
            <a:ext cx="914400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相信你的恩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相信你能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相信你智慧完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相信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476280"/>
            <a:ext cx="896472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所以我來為要愛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所以我來為要敬拜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你在我身作為可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一生敬畏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98440"/>
            <a:ext cx="892800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相信你的救贖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相信你的犧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相信你流出寶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相信你復活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標楷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401400"/>
            <a:ext cx="867708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Arial"/>
                <a:ea typeface="標楷體"/>
              </a:rPr>
              <a:t>所以我來為要愛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Arial"/>
                <a:ea typeface="標楷體"/>
              </a:rPr>
              <a:t>所以我來為要敬拜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Arial"/>
                <a:ea typeface="標楷體"/>
              </a:rPr>
              <a:t>你在我身作為可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Arial"/>
                <a:ea typeface="標楷體"/>
              </a:rPr>
              <a:t>我一生敬畏你</a:t>
            </a:r>
            <a:r>
              <a:rPr b="0" lang="zh-TW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21:42:46Z</dcterms:created>
  <dc:creator>USER</dc:creator>
  <dc:description/>
  <dc:language>en-US</dc:language>
  <cp:lastModifiedBy>USER</cp:lastModifiedBy>
  <dcterms:modified xsi:type="dcterms:W3CDTF">2007-04-22T00:15:47Z</dcterms:modified>
  <cp:revision>18</cp:revision>
  <dc:subject/>
  <dc:title>投影片 1</dc:title>
</cp:coreProperties>
</file>