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E66-6499-4387-8A5C-B06DFC9B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5F0-3A30-4CAC-9851-0FF2DA8D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7E1-9B6E-441B-BB3B-7CD5F347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3CA-72A8-43D6-9ABD-4EC22130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8706B-D780-4621-9DCC-3D7EAE23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E187B-FF79-4F30-9213-3D0D808C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26E29-DB4C-4051-BEBC-2B3CFED8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D5EB3-6670-4FBE-BF0D-3899D119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9148B-7BAF-42A7-A837-6C6DB6CA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A9E10-3AF9-4B60-B625-4806F563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FF6D7-C858-4455-BDD7-77BA6D75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BF7-E7CF-46E9-A7B0-87A2D06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9DCDD-B9FB-443F-A16A-66B4DB74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94D9D-59C6-44F0-A941-DCF32D83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B8058-D950-49D5-ACB4-2BEA8276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03495-4696-4911-AC29-2F7B4CBE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75DCF-C132-482A-9AE0-C2EA1B1A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2E6-92DB-4FBE-AE49-2897F566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289-5533-4428-9FD2-C4F1ADA0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D50-FA73-484E-8A93-F6CDE86F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3AF-8AC2-4C5D-8267-4DC03D5E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46A-51D3-47ED-9E51-0237A2F1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B4D-5B83-4E83-AE4E-2A195011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B40-F35E-4A69-8E44-E3FF6A5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1D5E-AAC0-4B59-A3C2-199745E5464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3FDB-38DE-4EF4-BD3E-5774059AC816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52280"/>
            <a:ext cx="867564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523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聖靈之歌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願神愛子以祂的聖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和祂慈愛環繞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讓祂充滿你使你心靈滿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762120"/>
            <a:ext cx="8915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哦 聖靈彷彿鴿子降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願你順服祂旨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使你得完全生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永遠屬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 哦 耶穌 來充滿我心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ｘ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685800"/>
            <a:ext cx="867564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哦 願你能歡樂的歌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唱出心中的喜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舉起你的手稱頌讚美主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762120"/>
            <a:ext cx="8915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哦 讓祂安慰你的憂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抹乾你一切眼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使你能靠主的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得新生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（耶穌 哦 耶穌 來充滿我心）ｘ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10-14T19:42:58Z</dcterms:modified>
  <cp:revision>20</cp:revision>
  <dc:subject/>
  <dc:title>Slide 1</dc:title>
</cp:coreProperties>
</file>