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295-38E7-4451-9BCE-B9E842FD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2DC-378A-4E96-B49A-5FCDD114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819-8BD5-4B18-842D-706CCCD2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9F2-E6A3-48C4-BF4E-5BBFEEC1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8102F-B8BC-4985-B03C-FD647222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C5BD5-AFF6-4EA6-BE0E-FF27167F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D2ADF-CDD6-4CB1-A3C3-BE11A4BC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EC15E-43C3-487D-8F93-3D2731E7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8A80F-47FA-4882-8364-4D912AD6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3A12A-94B3-42FE-A6F1-0731FA02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EF035-0DE1-4879-B9F7-B1E23C5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460-6575-4709-804D-EF24205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D4459-E9E2-4767-B111-7A12A6A3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2906A-B953-4D48-A02A-DC44E54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6B746-E18E-4AC6-B2BB-E6A79268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DA123-1DBB-45C2-B513-54A8608F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91226-6A9B-417E-A210-C84DB64D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19F-F058-47AC-9F00-13E241A8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FDA-DAC0-46A4-92F9-5F06650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882-97DA-4781-AFDB-F232152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0E8-132C-44B7-926C-8FB6124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296-ED57-4D99-9685-F799854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215-ED53-4E9D-BB73-322EC648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416-3FA3-4993-9E27-C669E3B6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4340-A644-4746-8EAC-F59D3E92BD45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D505-8201-4813-BE17-E22F12B798A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親愛的主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	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	</a:t>
            </a:r>
            <a:r>
              <a:rPr b="1" lang="zh-TW" sz="1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51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親愛的主，我願稱頌你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靈歡喜敬拜你，愛你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哦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王，求你側耳聽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以我默念為甘甜滿足你心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02-12T03:37:37Z</dcterms:modified>
  <cp:revision>52</cp:revision>
  <dc:subject/>
  <dc:title>Slide 1</dc:title>
</cp:coreProperties>
</file>