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E50-5496-44CC-BD3F-BE784753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2675-BBBF-4CB4-A149-D3508837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53F-F042-4D0C-8FAF-E19ED525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BF3-818E-45A8-8992-B498EA80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2910E-A62A-4D21-A159-B3245E41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5F9A1-4D0D-478D-99DC-1349978E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1CF42-0534-4B0A-BE84-D31776DD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479DD-6FAD-40AD-8B1E-D2C8CD3E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10D6C-2F94-453A-94AB-5A77A04A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08D2A-816B-42E1-9845-9A4D0D91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98D72-0829-4382-AB8C-B37F43ED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87D-48A3-4291-BCB8-9892B50B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56EA5-CA8F-430D-A3CE-B13F61D7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4416A-FA88-463A-830E-769D9CE3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FFBE6-771D-47AE-A885-7497FA97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A2802-A176-4A88-918F-BD1CD5F5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C46D2-47EF-4A64-BB9A-AB9333E1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155-341E-4649-99E7-941D01C3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3860-03C7-481F-8AE0-ADF4F6D6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3D78-F864-4813-847B-B8D1DE32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BD4-467C-4D2E-B6EB-74415DB3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2B5B-2E26-41EE-9659-B4BDA6EE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8E8-7CED-4BF0-A817-CE44D0E4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D0C-7714-43F2-8C12-E1221A72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FC29-2434-43DE-B3F2-90F00B4CA7EB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5556-1605-45C9-82AC-A76CECAE183F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433 </a:t>
            </a:r>
            <a:r>
              <a:rPr b="1" lang="zh-TW" sz="4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事奉祂愈久愈甘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自我進入主的國度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生命由祂掌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自我獻身心給耶穌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感到事奉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愈久愈甘甜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58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副歌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感到事奉祂 愈久愈甘甜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願更愛祂 因祂愛永不變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心中充滿喜樂 在地如在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感到事奉祂 愈久愈甘甜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祂賜我一切的需要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祂有豐富恩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每日賜我新的希望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感到事奉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愈久愈甘甜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58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副歌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感到事奉祂 愈久愈甘甜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願更愛祂 因祂愛永不變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心中充滿喜樂 在地如在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感到事奉祂 愈久愈甘甜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7-03-17T07:00:17Z</dcterms:modified>
  <cp:revision>31</cp:revision>
  <dc:subject/>
  <dc:title>Slide 1</dc:title>
</cp:coreProperties>
</file>