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845-19DC-442A-A8EC-063E710E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11A-EDC0-49B6-A0F9-3C0B9261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000-E21E-4956-949F-5EB5233C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E32-0B8D-44B9-BE0C-738BED60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CF6E-2BBB-4C7F-BA18-E6FB1DF5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BF06-C5A0-4BCE-9F3D-F20B14CE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19FB-DF49-49FF-8151-27F51F3A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44E2-FFC0-4C51-9194-246CAA25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5F3F-53DA-4C77-AC22-6E0D2B64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E177-53C3-401A-8E40-455525DB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66CB-81AB-45F9-98EA-9ED9151F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C5B-66E2-4FB6-8CB5-9C10CA55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6646-C71A-4F75-9AF1-BDE0CD48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B4FC-7655-4026-A5F1-4604C3AD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B1E3-7854-40F4-A54A-DEC665A9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C6D7-2D90-4AE8-86D4-EE2DFBBA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30FA-E8B9-472E-BD11-F399C027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3DE3-DCB1-4F5A-89FD-756EBDE7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AC84D-B85F-4E15-ADCC-873F5250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943F-DAFB-43E6-90A7-E0D35FD7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D81F-2508-473E-88E0-C8E059F8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75EFB-974E-4108-8443-4E3F122A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EE6-6F5F-4AE5-B27C-60154AFC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C7C5-D6E8-420B-9AD7-489E554F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8ACD-DB2D-4C17-9B79-33C608A1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6CE1F-53BE-4063-AA94-60FE0FCC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76B1-B3C5-450C-B6BE-1C719DB8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FB9A-5A56-4EC0-9D13-8B5AA30A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62BDC-11A9-45B8-8923-06088B07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0AF3-7918-4C5F-947C-B3CBDCED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3A52-1647-4D5B-A5D9-B6EC445C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60D75-7181-436A-8626-4F9CC875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9335-9B15-4C6D-9A6A-BD001A03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3B5-5AF2-4E25-8DCC-1A1E0B8B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0A45B-04CD-4F7A-B456-F66D0119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D29AC-A33A-41C3-992B-B139F186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58B5D-1154-4A23-946B-03083260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FE1AF-1565-45F9-AFE3-55A7B2D1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8267-7CAE-4B15-AD75-8E29E837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FFE7-31B7-45A7-8FB6-049CBAE4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C3AF1-64ED-4E30-95D1-99293839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B4416-8CC2-4624-AEDD-E5CF6B8C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DD6AF-D86A-495D-A18E-4B614321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BE5-2B37-4A55-91AA-04D4815D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14C-316A-40AF-B357-05F76B69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630-D669-4725-8999-EC62EC56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467-DC1F-4FE2-A5D8-480BCA86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B8E-211A-4357-9E0D-6DFA451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AA40-C8C8-4AF9-826A-E51B1B6F35A8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9095-4DB0-4243-AADD-69AA372007D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3ED1-EDC3-43D3-9C45-86FD3ADC3704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2874-D10C-47E3-AFE4-0C65F0E87A1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85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329   </a:t>
            </a:r>
            <a:r>
              <a:rPr b="0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信靠順服</a:t>
            </a:r>
            <a:r>
              <a:rPr b="0" lang="zh-TW" sz="36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buNone/>
              <a:tabLst>
                <a:tab algn="l" pos="0"/>
                <a:tab algn="l" pos="1085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085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1.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我與主同行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祂話的光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085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何等榮耀照亮我路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085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我肯聽主命 祂就充滿我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085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信靠順服者主肯同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60840" y="984600"/>
            <a:ext cx="5301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副歌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信靠順服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為除此以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不能得耶穌喜愛 惟有信靠順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990720"/>
            <a:ext cx="861048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2.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沒有一點黑影 沒有一片烏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能迷漫當祂笑容顯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沒有疑惑畏懼 沒有流淚憂慮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能存在若我信靠順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60840" y="984600"/>
            <a:ext cx="5301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副歌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信靠順服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為除此以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不能得耶穌喜愛 惟有信靠順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6160" y="981720"/>
            <a:ext cx="691056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3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標楷體"/>
              </a:rPr>
              <a:t> 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沒有一個重擔 沒有一點為難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     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祂是不顧 讓我們痛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     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所有傷心損失 所有厭棄羞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     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都成祝福若信靠順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860840" y="984600"/>
            <a:ext cx="5301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副歌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信靠順服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為除此以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不能得耶穌喜愛 惟有信靠順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98320" y="981720"/>
            <a:ext cx="617904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4.</a:t>
            </a:r>
            <a:r>
              <a:rPr b="0" lang="en-US" sz="48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然後我才會在 祂的腳前敬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就傍祂而同行前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要求我就許 祂差遣我就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不要怕只要信靠順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60840" y="984600"/>
            <a:ext cx="5301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副歌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信靠順服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為除此以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不能得耶穌喜愛 惟有信靠順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6:13Z</dcterms:created>
  <dc:creator>ali1</dc:creator>
  <dc:description/>
  <dc:language>en-US</dc:language>
  <cp:lastModifiedBy>USER</cp:lastModifiedBy>
  <dcterms:modified xsi:type="dcterms:W3CDTF">2008-05-24T06:18:26Z</dcterms:modified>
  <cp:revision>42</cp:revision>
  <dc:subject/>
  <dc:title>Slide 1</dc:title>
</cp:coreProperties>
</file>