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57B-3F01-4CBF-AE1D-EC7E13FB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BAF-BD02-4872-8BD4-36D0453A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A5F-DD10-4D5C-BC4E-59529EDA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B83-BC04-409B-B694-0C14A686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175AB-A79D-4192-B7CC-DB05DE39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8E63A-2434-46C0-8C24-C7528A1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6D38D-3093-4A39-947D-D9B36D3A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FD4A8-43C9-40F9-94C9-4F37BED0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E227C-0E33-4B7E-B2F0-C489C75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C980-C5A3-41B8-B5B5-11DC850A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506D9-ADE4-4D51-8191-6D2281A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3E6-5194-4C49-81AF-163D968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EBBD-1FBC-4C4E-92D8-5146049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23B83-09DC-4A73-9505-9A045C3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536D2-105F-4528-90CC-567E19C9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07C3B-2679-4335-A4D3-DE6644B3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A0C22-7717-4714-AEF4-24BBD2DB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D9B-4456-4C88-84D2-441D767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236-DA8F-469B-943D-36DA0221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06E-3D04-4CEC-BC66-74752528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9A8-65E9-483A-8C36-50ED4954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CEB-1F1D-4140-9975-B2BF4CC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D0A-9516-45B7-9853-BCCDC604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D6C-24B9-4235-BB6D-53FC1E3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3034-9567-4DA4-A66E-92644EE6043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783-3684-4A0C-955E-CEABAB20AECD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98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	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為主而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願獻身心 為基督而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在一切事上討我主喜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歡心順服主 憑主旨導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願背起十架一路隨主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慈悲主耶穌 受死作中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使我免罪孽又與神和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感譤主大愛 願聽主呼召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奉獻我一切來隨主引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52280"/>
            <a:ext cx="91440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無論何境遇 總為主作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盡我的本份 使主名得榮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倘或有苦難 我情願忍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為主名盡忠得永遠生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52280"/>
            <a:ext cx="914400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在短瞬世間 願為主而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因我心所愛是主的笑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深願為我主 尋找迷失羊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引領疲倦人安息主懷中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52280"/>
            <a:ext cx="914400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副歌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哦 主耶穌 我救主 我心奉獻給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祢在十字架上 為贖我罪釘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祢作我救主 來住在我心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一生一世到永遠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哦 主 完全歸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8-07-12T07:08:49Z</dcterms:modified>
  <cp:revision>34</cp:revision>
  <dc:subject/>
  <dc:title>Slide 1</dc:title>
</cp:coreProperties>
</file>