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50920" y="152280"/>
            <a:ext cx="8675640" cy="54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教會聖詩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292</a:t>
            </a:r>
            <a:r>
              <a:rPr b="0" lang="en-US" sz="54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 </a:t>
            </a:r>
            <a:r>
              <a:rPr b="0" lang="zh-TW" sz="4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將你最好的獻於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將你最好的獻於主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獻你年輕的力量；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將你純潔熱情心靈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忠心為真理打仗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1295280" y="533520"/>
            <a:ext cx="68947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主耶穌已做你榜樣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勇敢堅定不懼怕；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你要忠心敬虔愛主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將最好奉獻與祂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219320" y="685800"/>
            <a:ext cx="662436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*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將你最好的獻於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獻你年青的力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穿上救恩全副軍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忠心為真理打仗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85800"/>
            <a:ext cx="867564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2. 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將你最好的獻於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主在你心居首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主在事業上居首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完全奉獻不收回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95280" y="685800"/>
            <a:ext cx="66373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樂意施捨必得賞賜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因神將愛子賜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你要向主感恩事奉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全真特圓體"/>
                <a:ea typeface="標楷體"/>
              </a:rPr>
              <a:t>將最好奉獻與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662436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*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將你最好的獻於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獻你年青的力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穿上救恩全副軍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忠心為真理打仗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685800"/>
            <a:ext cx="867564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標楷體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將你最好的獻於主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主愛偉大無可比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祂將自己做你贖價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天上榮耀賞賜你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685800"/>
            <a:ext cx="66373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祂捨生命毫無怨言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救你脫罪把血洒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你要熱心敬虔愛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將最好奉獻與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19320" y="762120"/>
            <a:ext cx="662436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*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將你最好的獻於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獻你年青的力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穿上救恩全副軍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忠心為真理打仗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08:55:16Z</dcterms:created>
  <dc:creator>ali1</dc:creator>
  <dc:description/>
  <dc:language>en-US</dc:language>
  <cp:lastModifiedBy>USER</cp:lastModifiedBy>
  <dcterms:modified xsi:type="dcterms:W3CDTF">2008-01-25T19:15:39Z</dcterms:modified>
  <cp:revision>11</cp:revision>
  <dc:subject/>
  <dc:title>Slide 1</dc:title>
</cp:coreProperties>
</file>