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CB4-3626-43DD-990A-9FA887A4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160-F23F-4877-B15A-631C99B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E74-7645-4A96-905A-D3380FB6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23A-03C1-4FDD-9A9B-20EBFE65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628BD-BEFE-44B1-9608-007D239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225FD-E040-46C4-A232-3400868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E124A-D8A3-4B4F-AF1C-3122D2A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5710-D310-4BE3-A542-4F73C60B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B76E5-C41E-421F-9BA7-1BC9BDFB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94D0-E02F-440D-9E30-2E7E17F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85B8A-371F-41D5-BB90-2402AD5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983-1E46-4AA2-9131-F3B26BF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4B008-6549-42FB-AA4D-CE4E3AA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55E02-DCFB-477F-95DC-38FFC9C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F356-4F25-4B01-AD36-8C861CF1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ABE5B-60FF-4AA8-9ADB-10040C9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06300-8E6E-4DB4-8918-6117F3FC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5B41-C05B-4A0A-AD60-4B585988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8585-14A8-4FE1-AA76-FF2635E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35E4-9A68-4D21-A033-7C30498F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66A4-027E-4F2D-8809-693D5F6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D393-E836-425A-B95E-32A1C78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E70-4891-4312-BA4E-3484F82B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CA0C-F0BB-4BC7-8DC9-7117C90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FB53-9B8C-4AC6-9AFD-F6A36AD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8461-D489-4669-B8AE-66667C4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843B-2ED2-4CAA-AD65-CCDD106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C288-8AAA-4F8E-AD9A-079D59C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B1E2-9D9D-4E90-96E0-EDF49AD6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C943-0C2E-471C-A210-B65ECFC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FE224-5817-4B63-B304-CF4F1F3B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AA47B-BB0F-4DDD-B60D-79DB672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7A3FE-EB25-4010-B877-77B00E3E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9F4-CA8A-4EFD-B2F6-215F20B8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BE64D-272B-4830-9EC1-B016007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ADF22-F9DA-4643-A6CF-9BC7E9F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D7CE3-E8A5-455D-A6CA-C7B3159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0DA44-7E48-4FA0-99C1-3FFAFCA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B482D-8759-41DD-8731-5AC3EC4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0FE00-7977-485F-BF2B-999F9CD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52AA6-F7CC-45BC-B22C-821A305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2DD8A-3F7C-4C46-BA21-E42A6CD6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C96EC-4F69-496C-860E-D552CA99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B2C-B634-453F-94AB-BB387922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530-402C-462C-BFF2-D033B262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AAD-BD78-4659-8D47-FEF3247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D57-F99B-4B51-88DC-D57B84E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91E-FF70-4504-8914-699CB5A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BFEB-48E9-4990-82D2-3647F7662C6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4C40-500F-464B-9199-71735F70CA2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10F-531D-4E1E-985B-720DDA39766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0B2-65FE-42CA-983E-3A4CBFC22A1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91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我一生求主管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一生求主管理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願獻身心為活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使我手作主聖工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因被主慈愛感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因被主慈愛感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228600"/>
            <a:ext cx="8763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腳為主行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步步都聽主吩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常常讚美主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遠只歌頌基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遠只歌頌基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763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口時常頌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傳講救主榮耀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金銀都歸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願留下為自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願留下為自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228600"/>
            <a:ext cx="8763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愛如火上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全獻給我主我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願獻一切所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完全屬主到永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完全屬主到永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2-04T20:20:00Z</dcterms:modified>
  <cp:revision>60</cp:revision>
  <dc:subject/>
  <dc:title>Slide 1</dc:title>
</cp:coreProperties>
</file>