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04A-0A21-4396-BCAB-304556D3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DD9-4A23-49EE-A803-0564CE5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E60-FB00-4B69-95C1-347768C1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FBD-3FCD-40A6-BD25-55BF909F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4A0A1-A92C-4915-A889-A878899E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F9C8D-4E70-4B8B-95E0-0BB65797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B776E-3DC0-4D7B-BCE7-F87F086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02CB1-05B3-48CB-BC83-D95A9EE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2489E-561F-44AE-94CF-409CD348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F4BCE-9A66-4293-AEDB-B2DF9A2B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A4FA9-72EA-475D-968F-86C054E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96D-0B4E-4F45-9369-460669C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4575A-01A7-45A2-9929-E766F62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C944E-BC4E-414E-9A84-20561BF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14832-4F58-448C-B5DD-E0D15D88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75D3B-D578-4698-8812-DF9127D7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18535-4217-462A-A113-6B2BED1E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6EA-52FD-490D-9BA3-330FB479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5E6-AB78-456D-8F7E-2E6EF4A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7FE-F714-4175-A60E-00962789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28B-DECA-4EFC-9258-1DB6AF64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902-6DDA-468B-997D-2585E0F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11D-F338-4111-AA11-584FFA4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E5C-840D-4673-8BAC-0B3D29A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3066-0BC7-40BE-80AA-98EA0138AEAC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CFB6-B09F-4E05-A4F0-B2D27435A28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685800"/>
            <a:ext cx="8675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59  </a:t>
            </a:r>
            <a:r>
              <a:rPr b="1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頌讚主聖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頌讚歸與耶穌聖名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至高至聖至尊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上地下歌頌主名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歌聲晝夜不停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76212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762120"/>
            <a:ext cx="8915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聖名滿有權能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魔鬼都逃遁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使罪人出死入生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到天堂福份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76212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76212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名稱為奇妙策士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能和平之君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萬膝跪拜萬口承認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永歸主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76212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名何等佳美馨香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普遍宇宙穹蒼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名超乎萬名之上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配受一切頌揚。</a:t>
            </a: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6212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聖名！頌讚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頌讚榮耀歸主聖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8-12-14T04:04:45Z</dcterms:modified>
  <cp:revision>19</cp:revision>
  <dc:subject/>
  <dc:title>Slide 1</dc:title>
</cp:coreProperties>
</file>