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B247-6E04-4A33-8E62-8CD6C3E5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4D96-0D95-429F-9BA7-0054786D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FCD9-D25A-4B42-8988-2038A806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8DC0-68A3-4D5C-A397-39BA17B6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F9B42-427D-4D5F-ABD4-32941932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C53C9-E277-4BC6-8E1D-5557AA3B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8C2E7-E780-403C-918F-6BD3E3F3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81300-A99C-4A94-93C5-567B2422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24F7D-C842-41DC-8BDD-17242FF6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FE41A-CA46-4C09-99BE-9B7A9663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9B225-7D64-4BFA-8DED-4F96F7EC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13F-190D-418B-BAFE-E7DA7A35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71C56-2563-4F2E-87B1-633B240E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C2692-7883-4BDD-8084-F5798B06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90A35-1A3E-420C-BDC7-E10D7986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80092-077C-4325-8D45-32024976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693D3-9265-4DCE-BB75-FCEEC4B6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7C3-6529-41F6-8556-C1AA52DE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825-BEAA-4480-99C9-CDF4C2FA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A17-05B5-46A8-A4FA-16EF8A58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F101-9196-4256-8F7F-9EB7F7E3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CEFB-D00D-4BC4-B318-B60A4BFE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E5C-CDCD-4E87-A25A-10C0CF57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0D1C-6055-49F7-BF4E-91F1C8F7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7B9C-F076-4EB4-AFD5-8A54EFF3B3AE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B2DE-9F4D-4223-93AA-E290E1929680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6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214</a:t>
            </a:r>
            <a:r>
              <a:rPr b="1" lang="en-US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 </a:t>
            </a:r>
            <a:r>
              <a:rPr b="1" lang="zh-TW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主活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奉一位復活主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他今在世活著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知道他確活著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不管人怎麼說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見他手施憐憫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聞他安慰聲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每次當我需求祂，總必答應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*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基督，耶穌，今天仍然活著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祂與我談，祂伴我走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生命窄路同過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要傳揚，救恩臨到萬民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你問我怎知主活著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因主活在我心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28600"/>
            <a:ext cx="899172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在我所處環境中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愛常在我旁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雖然有時心煩惱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但我決不失望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知救主引領我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衝破狂風怒潮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一日我主必再來，大顯榮耀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*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基督，耶穌，今天仍然活著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祂與我談，祂伴我走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生命窄路同過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要傳揚，救恩臨到萬民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你問我怎知主活著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因主活在我心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28600"/>
            <a:ext cx="899172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眾聖徒歡欣喜樂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都當揚聲歌唱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當歌唱哈利路亞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永歸基督君王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祂是尋者的盼望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又是求者力量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無一人像祂可愛，仁慈善良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*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基督，耶穌，今天仍然活著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祂與我談，祂伴我走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生命窄路同過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要傳揚，救恩臨到萬民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你問我怎知主活著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因主活在我心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chris</cp:lastModifiedBy>
  <dcterms:modified xsi:type="dcterms:W3CDTF">2008-12-10T05:50:36Z</dcterms:modified>
  <cp:revision>26</cp:revision>
  <dc:subject/>
  <dc:title>Slide 1</dc:title>
</cp:coreProperties>
</file>