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CBA5-BDC4-49FC-9257-BE98D22A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36F0-BF94-4030-BF91-D33444DC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977F-4220-4C53-8C4A-E205CB66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C328-0C57-430E-B474-AA935597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F86C8-17D2-449E-B260-8DA32C95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9B736-82B6-49D7-9ACB-726D4635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5093D-011C-427B-AF38-E5775CF6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5ACDE-CFA3-41D6-A337-4EBAFDD7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0A58F-E232-4470-B4C0-C1E266D9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76BC6-8A24-4AA0-B6D7-D32F17DB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5D788-DBEC-45E6-A9CC-5B75FADE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F545-CE8B-4E08-B3FF-33256E8B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950CD-1F05-49E9-90D4-D313A354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C9FFB-5C60-4AA4-8C8F-0C8389AC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AA926-DB03-434B-8FDE-43694479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BF78F-CF26-448E-B936-45BD0B16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E0253-DCAA-4E57-87FA-EF61A5B2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9483F-53EE-4DD3-B6B6-663C09CF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F67F8-37C9-47F6-8FD9-E7F65BDC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96FED-734C-449B-A242-F1BE584A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D78D9-A0B6-4FF8-B128-1A0220DC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F8170-B81E-4304-973A-7B6C32A4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5ADD-CFD5-46F5-8489-4F49449C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00A52-8002-46A7-B7F7-B9A9F78F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76635-2AC2-4227-9807-556A72AB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D484E-469C-450F-ADD2-1D5093CA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063F6-79A1-4582-95E8-5C56D77D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0C2C5-FDDD-4B56-92BD-E70DB33F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F61C4-F36A-4670-9916-48245AD9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6957A-1D8B-478F-8604-D79B3802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EAD5D6-094D-4440-B826-478F9225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28A3D7-291F-4B22-A2C0-5B44C92A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5A9C2D-E53C-4B92-A2C6-CEEFEC54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B32A-D41C-456D-8544-CF6A6F2D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337317-B1F0-4208-ACCA-8942E1CE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C5E4DE-95C1-4FD2-8DC0-956F5F55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FEB30B-82A8-474E-AC75-D67777F2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3C5D71-630A-4CAE-8099-59CB19BF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54332B-3599-47C0-885F-7888580F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610B93-4B4D-42D8-B3AA-22431BC5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848D5C-47B6-47FF-B1C6-CB3CCB56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EBDDBF-7A03-4D36-BA52-907B84FC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9056AD-398A-4038-839B-B83EAC26F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53C5-E4E3-4E41-9AF0-96B0446F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F15B-E229-4FD9-8FB2-BFEF7435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7E3A-24E6-4164-B89E-31C14C19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DB8D-C32F-4E9D-A7C6-C7B693A6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AB17-8F21-4559-B815-81D96456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AC33-F647-485F-9532-1A293622E3F3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3DB1-9FD4-4326-8338-3F348F2B994F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C573-A042-4EFB-AD71-0DB12403F3C8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26AF-7AE0-4BFF-BCAA-A74C0EC6DA94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50920" y="152280"/>
            <a:ext cx="8675640" cy="62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教會聖詩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198</a:t>
            </a:r>
            <a:r>
              <a:rPr b="0" lang="zh-TW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首 </a:t>
            </a:r>
            <a:r>
              <a:rPr b="0" lang="zh-TW" sz="4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十字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求主使我靠十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在彼有生命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寶血由十架流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白白賜人洗罪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十字架十字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永是我的榮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眾罪都洗清潔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0920" y="457200"/>
            <a:ext cx="8675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來到主十架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蒙救主的愛憐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祂賜我聖靈亮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照亮我的心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十字架十字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永是我的榮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眾罪都洗清潔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唯靠耶穌寶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50920" y="380880"/>
            <a:ext cx="8675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求主使我依十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思念昔日情景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常在十架蔭庇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緊緊跟主前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十字架十字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永是我的榮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眾罪都洗清潔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唯靠耶穌寶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0920" y="380880"/>
            <a:ext cx="8675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儆醒等候十架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盼望信心加增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直到走完世路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天家永享安穩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十字架十字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永是我的榮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眾罪都洗清潔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唯靠耶穌寶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USER</cp:lastModifiedBy>
  <dcterms:modified xsi:type="dcterms:W3CDTF">2008-01-06T04:32:46Z</dcterms:modified>
  <cp:revision>19</cp:revision>
  <dc:subject/>
  <dc:title>Slide 1</dc:title>
</cp:coreProperties>
</file>