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33360" y="-380880"/>
            <a:ext cx="9810720" cy="761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66040" y="457200"/>
            <a:ext cx="4586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33360" y="-380880"/>
            <a:ext cx="9810720" cy="7619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 u="sng">
                <a:solidFill>
                  <a:srgbClr val="ffcc00"/>
                </a:solidFill>
                <a:uFillTx/>
                <a:latin typeface="標楷體"/>
              </a:rPr>
              <a:t>教會聖詩 </a:t>
            </a:r>
            <a:r>
              <a:rPr b="1" lang="en-US" sz="2200" spc="-1" strike="noStrike" u="sng">
                <a:solidFill>
                  <a:srgbClr val="ffcc00"/>
                </a:solidFill>
                <a:uFillTx/>
                <a:latin typeface="標楷體"/>
              </a:rPr>
              <a:t>183</a:t>
            </a:r>
            <a:r>
              <a:rPr b="1" lang="zh-TW" sz="4400" spc="-1" strike="noStrike" u="sng">
                <a:solidFill>
                  <a:srgbClr val="ffcc00"/>
                </a:solidFill>
                <a:uFillTx/>
                <a:latin typeface="標楷體"/>
              </a:rPr>
              <a:t>　美哉主耶穌</a:t>
            </a: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美哉主耶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宇宙萬物主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祂是真神降世為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我心所景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我靈所崇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是我榮耀冠冕歡欣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</a:rPr>
              <a:t>2.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美哉芳草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原野更是美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大地披上彩色春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耶穌更美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耶穌更清潔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使憂傷心發出歌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</a:rPr>
              <a:t>3.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陽光多美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月光更覺清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繁星點點燦爛閃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耶穌更光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耶穌更皎潔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天使榮光不足比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</a:rPr>
              <a:t>4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美哉主耶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統轄萬國萬民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世人救主天上真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尊貴與光榮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讚美與敬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	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</a:rPr>
              <a:t>都歸主耶穌到無窮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6-08-12T16:18:34Z</dcterms:modified>
  <cp:revision>19</cp:revision>
  <dc:subject/>
  <dc:title>Slide 1</dc:title>
</cp:coreProperties>
</file>