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6251-AD51-4E96-AD27-AED15F5E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6A9C-C2CA-4A5E-9996-CB048496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D91A-AF2A-4C44-93E8-6F5310F1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B798-E41A-49F8-805F-F38A47D7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820A2-C765-46EB-A9D5-46AAA899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81C7C-8BC0-4190-8320-748F7FF4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0500F-B60E-4237-A010-F9A8A675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8DD1C-9838-4464-8581-4CC9D9EF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07E0D-A67E-479C-958B-8FDD6C9B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0561D-23D1-4FAB-9819-7A8951EF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D7003-5F95-45B0-BDAB-A9E87054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6691-685D-47D1-84B0-B5F24690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7F19C-4F8D-46C2-B208-06032E76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2C539-E699-486C-A608-50A63063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38FE9-3635-42CA-AE74-9432A214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5619A-DE13-49D3-9B30-83AD6658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60FC2-6E8E-445E-93BD-7F450AC7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8188-27FB-46A2-B97B-D85D11D8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6EB5-FDB0-4D81-A2B0-4F43821E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9A26-DE43-4A39-90C5-5540D2ED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F075-6093-447C-9592-2CEA9AC1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34DB-B625-447C-8D90-CD7E5D89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8CD7-2580-4FDC-861A-4656448A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C387-52BE-48E0-AC32-C1650A25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E55D-03DD-47C6-8082-A1C95EE395F1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9580-EDE0-4CBF-979D-8C91228DA41E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0"/>
            <a:ext cx="8675640" cy="6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教會聖詩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182</a:t>
            </a:r>
            <a:r>
              <a:rPr b="1" lang="en-US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  </a:t>
            </a:r>
            <a:r>
              <a:rPr b="1" lang="zh-TW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怎能如此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1. 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怎能如此，像我這樣罪人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也能蒙主寶血救贖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因我罪過使祂受苦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因我罪過使祂受死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奇異的愛！何能如此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主我神竟為我死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457200"/>
            <a:ext cx="8381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*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奇異的愛！ 何能如此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主，我神，竟為我死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457200"/>
            <a:ext cx="838188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竟拋棄，天上榮耀寶座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白白恩典何等無限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捨去己身成全大愛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救贖可憐亞當後代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恩典憐憫，何等無限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主我神將我尋回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457200"/>
            <a:ext cx="8381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*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奇異的愛！ 何能如此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主，我神，竟為我死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457200"/>
            <a:ext cx="838188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的心靈，多年被囚捆綁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被罪包圍幽暗無光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眼發出復活榮光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使我覺醒光滿牢房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鎖鏈斷落，心得釋放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起來跟隨主前往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457200"/>
            <a:ext cx="8381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*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奇異的愛！ 何能如此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主，我神，竟為我死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457200"/>
            <a:ext cx="838188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不再定罪，今我不再畏懼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耶穌與祂所有屬我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活在永活元首裡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穿起公義聖潔白衣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坦然進到神的寶座前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因我救主，我得</a:t>
            </a:r>
            <a:r>
              <a:rPr b="1" lang="zh-CN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榮冕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457200"/>
            <a:ext cx="8381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*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奇異的愛！ 何能如此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主，我神，竟為我死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USER</cp:lastModifiedBy>
  <dcterms:modified xsi:type="dcterms:W3CDTF">2007-09-15T18:06:57Z</dcterms:modified>
  <cp:revision>24</cp:revision>
  <dc:subject/>
  <dc:title>Slide 1</dc:title>
</cp:coreProperties>
</file>