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206-1D59-4436-AE56-6D0B7FB84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D5C-0BB8-4ACB-92A5-2F9EAEFA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91BD-5AC7-41B5-B032-3BBAFD85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0A5-F6F0-460F-B85A-C7954193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BB562-45E8-4EF1-927D-4C2A7D33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9F82A-561B-49AD-9A38-E06E6203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02F9D3-99EE-4815-BAF1-6048C5A5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5D079-2488-4C06-9076-30ED0984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F1FA1-DC9A-490C-A5C8-9105267D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7A29D-AC14-4268-8A63-332CA2A3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5A349-E29E-426E-AC54-DC1B35DF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8909-78F7-4BBC-B768-5ADBBE19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590BD7-D6FC-4D03-94BF-BF6E4F6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4A79C-994D-48DD-809F-80B0DA3D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00C9C-74DB-4408-9192-2D810869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1B729-921B-4972-898F-751D9A8C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74860-3407-4D7D-B305-439494F5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ECBA-83F5-4485-864E-1ACA1294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1E1BA-0046-42E1-BF5E-068B2825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65AC8-EACA-42DB-9696-D4DB64EE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2D47-C045-41F8-8463-BA5E4450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7B5A-1997-40BD-BCB8-4B178DB8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8556-716F-40A0-A66F-5DB635A0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211DB-097F-4978-A05A-06973124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58AFF-E5B4-4F1D-AA5F-01E75C10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089CA-96FA-4B3F-A9AB-433B8713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BC64F-D555-4842-98B1-DAF0E84F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06E0-8151-46FD-9A08-92B44FC1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DE9B-619F-4560-A70F-6467176B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132E-75C3-4BDC-9F49-D1EF2BCA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CBDB8-E830-4170-9490-B7A334675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EE17D-795E-4793-B3B0-E4398F06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852DF4-1306-46D4-BD61-9D187B10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91B-2BFD-499E-881B-5DE22200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D1FEDE-2707-42DF-A7A8-E779087A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F518FC-9649-4D5A-9D7F-BA42877F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CA909-B2B5-433A-B6D2-E902B203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945ACD-1DFE-4A3D-B063-738B89F0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E24CD8-B289-4686-B483-BA1D5C94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C62C3A-0AB1-404B-B1E7-9897BEB0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3A87B-D7A2-49D2-886F-A2EDC275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1860F-D859-4962-8E02-B9543C84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F381D-C4A8-493E-B230-5D8B2B7A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5FE-7C6A-44D3-B2D6-58DFB3B6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1283-80D9-4F88-A95F-4F079D6D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432E-366C-4136-A196-CE3CC048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1C0-7FAC-455F-89EF-E0CF5BCA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A89A-9E56-4E07-BA12-94A54B13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89F-CB22-4CA1-9721-B6D29D1ACC01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5AD4-AF58-4B63-92A3-990C0ABE1A02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1CE1-0C8A-4369-A189-F7844AE3CBFE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CBCB-9227-40B8-8F76-D1797C4FFEAF}" type="slidenum"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標楷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標楷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152280" y="152280"/>
            <a:ext cx="10134360" cy="66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 u="sng">
                <a:solidFill>
                  <a:srgbClr val="ffcc00"/>
                </a:solidFill>
                <a:uFillTx/>
                <a:latin typeface="Tahoma"/>
                <a:ea typeface="新細明體"/>
              </a:rPr>
              <a:t>教會聖詩</a:t>
            </a:r>
            <a:r>
              <a:rPr b="0" lang="zh-TW" sz="1800" spc="-1" strike="noStrike" u="sng">
                <a:solidFill>
                  <a:srgbClr val="ffcc00"/>
                </a:solidFill>
                <a:uFillTx/>
                <a:latin typeface="Tahoma"/>
              </a:rPr>
              <a:t> </a:t>
            </a:r>
            <a:r>
              <a:rPr b="1" lang="en-US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138  </a:t>
            </a:r>
            <a:r>
              <a:rPr b="1" lang="zh-TW" sz="40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平安夜，聖善夜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1.</a:t>
            </a:r>
            <a:r>
              <a:rPr b="1" lang="zh-TW" sz="4200" spc="-1" strike="noStrike">
                <a:solidFill>
                  <a:srgbClr val="ffffff"/>
                </a:solidFill>
                <a:latin typeface="Tahoma"/>
                <a:ea typeface="標楷體"/>
              </a:rPr>
              <a:t>平安夜，聖善夜，萬暗中，光華射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照著聖母也照著聖嬰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多少慈祥也多少天真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靜享天賜安眠，靜享天賜安眠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Silent night, holy nigh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All is calm, all is b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Round yon virgin mother and chi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Holy infant so tender and mild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Sleep in heavenly peac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Sleep in heavenly pea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152280" y="152280"/>
            <a:ext cx="9753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2.</a:t>
            </a:r>
            <a:r>
              <a:rPr b="1" lang="zh-TW" sz="4200" spc="-1" strike="noStrike">
                <a:solidFill>
                  <a:srgbClr val="ffffff"/>
                </a:solidFill>
                <a:latin typeface="Tahoma"/>
                <a:ea typeface="標楷體"/>
              </a:rPr>
              <a:t>平安夜，聖善夜，牧羊人，在曠野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忽然看見了天上光華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聽見天使唱哈利路亞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救主今夜降生，救主今夜降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Silent night, holy night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Shepherds quake at the sight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Glories stream from heaven afar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Heavenly hosts sing alleluia;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Christ the Savior, is born!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Christ the Savior, is born!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152280"/>
            <a:ext cx="93726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標楷體"/>
                <a:ea typeface="標楷體"/>
              </a:rPr>
              <a:t>3.</a:t>
            </a:r>
            <a:r>
              <a:rPr b="1" lang="zh-TW" sz="4200" spc="-1" strike="noStrike">
                <a:solidFill>
                  <a:srgbClr val="ffffff"/>
                </a:solidFill>
                <a:latin typeface="Tahoma"/>
                <a:ea typeface="標楷體"/>
              </a:rPr>
              <a:t>平安夜，聖善夜，神子愛，光皎潔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救贖宏恩的黎明來到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聖容發出來來榮光普照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Tahoma"/>
                <a:ea typeface="標楷體"/>
              </a:rPr>
              <a:t>耶穌我主降生，耶穌我主降生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Silent night, holy night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Son of God, love</a:t>
            </a:r>
            <a:r>
              <a:rPr b="1" lang="en-US" sz="33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’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s pure ligh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Radiant beams from Thy holy face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With the dawn of redeeming grace,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Jesus, Lord, at Thy birth,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 </a:t>
            </a:r>
            <a:r>
              <a:rPr b="1" lang="en-US" sz="3300" spc="-1" strike="noStrike">
                <a:solidFill>
                  <a:srgbClr val="ffffff"/>
                </a:solidFill>
                <a:latin typeface="標楷體"/>
                <a:ea typeface="標楷體"/>
              </a:rPr>
              <a:t>Jesus, Lord, at Thy birth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9T08:55:16Z</dcterms:created>
  <dc:creator>ali1</dc:creator>
  <dc:description/>
  <dc:language>en-US</dc:language>
  <cp:lastModifiedBy>USER</cp:lastModifiedBy>
  <dcterms:modified xsi:type="dcterms:W3CDTF">2005-12-22T07:44:40Z</dcterms:modified>
  <cp:revision>47</cp:revision>
  <dc:subject/>
  <dc:title>Slide 1</dc:title>
</cp:coreProperties>
</file>