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F14-0153-426C-BC01-0D34C6F3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5E6-73FE-4B2F-857B-3DD69078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33A-27D1-4A63-B91B-CC215397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20E-B278-4FC4-9ED7-5AD75CA0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7ADEE-84E4-4AF1-99A6-5FF1DE5F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8D263-857B-46BA-B3BC-6166153E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87FC1-D02E-4C1A-8AE1-A0DC6D9C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FA1D6-7779-4215-91F7-B65C9F37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074EE-FE9D-4075-9F0E-30668193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3D373-4BB9-4BF4-BCAA-7C66DA6E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BA528-C96C-4970-A2D7-0465EE3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513-7902-46A6-AA19-35E5ADD8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8F82D-6D21-4C0D-9240-5808EB38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F9D01-1428-4328-8E18-640D27D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5D076-68E5-49F0-8D16-6E97A98C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9DFCF-A1B7-4271-978B-FE9771D1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CE21B-A118-4BEC-8A1B-24D54D82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C8D4-5188-4C22-A869-2654418F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8E1F-D344-4097-A621-B82F10B1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B07F0-E03E-4A32-8297-1E0C8A8A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B47A8-A084-4623-9435-B52574CA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468D-1969-4FD1-9FC9-B8C0C451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30A-97C8-49E8-9DC9-7F875066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91F9-8CA5-4FA7-A525-BC633102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BC1A-F9BF-432E-B0E0-9DFE634C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EDC7-A43B-4395-9F3E-59FBD8F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1FA5-0FF6-4F5F-A6AE-9A2E1940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94844-0C23-49CE-9152-DBC2E524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92DE-2172-4E6E-8CB9-B92E5F64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BD82-AEA9-45BA-A9C2-F44B62DD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8D71D-B513-4B11-8AA5-22DF7D0E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CA663-865B-47A3-B2B3-E95622D3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EB2997-8662-436C-B71D-75C06AA8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F7F-5684-45E9-AC33-6075B051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14D09-FD6E-4FDC-8C0E-D681BF54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0D97D-E289-41BA-9C07-1E3AC236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24353-183E-42E2-8475-5FAC77CF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FF723-93A3-465A-9DA0-E1C6BA5F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5C282A-3DD7-47C0-9F18-927A4A51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CF1A8-FDD0-4CDC-A51C-C4504F66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77489-FAF4-4134-AF4F-B4E551F9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75958-54D8-4828-ACB2-1E4E4DB1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B32BE-3AF8-4845-8FEB-B32757AA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C88-0D43-49DE-914F-1E76C698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3A1-7892-44EE-9DE7-2AE741FB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D5A-B802-4074-8D67-08E2B90E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4B6-F3DC-4642-9EBF-B34969B1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7E2-3B61-4490-93E6-626F9936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64D1-02F7-4C7A-95A2-6533D3F1D9F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B141-9AFE-46A8-BF8B-ED331AF72059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B8CE-9BFD-4A7D-9EB4-8FF533307971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6E63-35AB-4E8B-A394-7093687A8D84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152280"/>
            <a:ext cx="94489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ffcc00"/>
                </a:solidFill>
                <a:uFillTx/>
                <a:latin typeface="Tahoma"/>
                <a:ea typeface="新細明體"/>
              </a:rPr>
              <a:t>教會聖詩</a:t>
            </a:r>
            <a:r>
              <a:rPr b="0" lang="zh-TW" sz="18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r>
              <a:rPr b="1" lang="en-US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117  </a:t>
            </a:r>
            <a:r>
              <a:rPr b="1" lang="zh-TW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普世歡騰</a:t>
            </a:r>
            <a:r>
              <a:rPr b="0" lang="zh-TW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200" spc="-1" strike="noStrike">
                <a:solidFill>
                  <a:srgbClr val="ffffff"/>
                </a:solidFill>
                <a:latin typeface="Tahoma"/>
                <a:ea typeface="標楷體"/>
              </a:rPr>
              <a:t>普世歡騰！救主下降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Tahoma"/>
                <a:ea typeface="標楷體"/>
              </a:rPr>
              <a:t>大地接祂君王；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Tahoma"/>
                <a:ea typeface="標楷體"/>
              </a:rPr>
              <a:t>惟願眾心預備地方，諸天萬物歌唱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Tahoma"/>
                <a:ea typeface="標楷體"/>
              </a:rPr>
              <a:t>諸天萬物歌唱，諸天，諸天萬物歌唱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Joy to the world, the Lord is com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Let earth receive her King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Let every heart, prepare Him roo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And heaven and nature sing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And heaven and nature sing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Let heaven, let heaven and nature s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52280"/>
            <a:ext cx="982980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普世歡騰！主治萬方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民眾都當歌唱；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沃野洪濤山石平原，響應歌聲嘹亮，</a:t>
            </a: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響應歌聲嘹亮，響應，響應歌聲嘹亮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Joy to the world! The Savior reig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Let men their songs empl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While fields and floods, rock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hills and pla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Repeat the sounding jo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Repeat the sounding jo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Repeat, repeat the sounding jo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52280"/>
            <a:ext cx="9372600" cy="65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罪惡憂愁，不容再長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世途荊棘消亡；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化詛為恩無遠弗達，到處主澤流長，</a:t>
            </a: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到處主澤流長，到處，到處主澤流長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No more let sins and sorrows grow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Nor thorns infest the ground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He comes to make His blessings flow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Far as the curse is found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Far as the curse is found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Far as, far as the curse is found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52280"/>
            <a:ext cx="929628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主藉真理，恩治萬方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要使萬邦證明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我主公義無限光榮，主愛奇妙莫名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主愛奇妙莫名，主愛，主愛奇妙莫名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He rules the world with truth and gr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And makes the nations prov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The glories of His righteousness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And wonders of His love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And wonders of His love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And wonders, and wonders of His love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5-12-22T07:31:53Z</dcterms:modified>
  <cp:revision>42</cp:revision>
  <dc:subject/>
  <dc:title>Slide 1</dc:title>
</cp:coreProperties>
</file>