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867-9305-4792-9DBF-058831C6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AD6-1277-4E16-803D-31CDC71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ED1-5A1A-48C9-9942-3F6E4A58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C28-9988-4B7F-863E-C80F2382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D4F63-989F-4F20-8DD2-5F120844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F0D0B-369D-47AA-8308-193DD0D2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2491B-A5EC-42D1-A5B8-3F289A5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70EB8-0ED2-412E-B061-EA720A6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04E24-C0E8-4CD8-8148-EFAABC71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C1CB8-8570-4018-B109-E31A2EB4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09A83-DD11-410D-9B35-9123A94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8E6-5960-4273-AAF6-0AC640EA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B4CD2-8903-4A25-9C4A-497C4CE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6EFD7-4206-45BA-A2DE-6D9BB00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EF281-0D20-4F74-8308-7D1D2899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5BE8B-770C-4E99-A70F-87488745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BABFC-F5E1-4D4E-9CA8-00BEF037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D82-793E-43E1-9F84-A8ABA5D0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7E4-84A8-4A0E-BB30-CDB40EA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9C4-C7EC-4021-9663-2A198EB8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728-AEBD-4B03-82A0-141F24D7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70B-659C-4221-9F13-FAB28DA3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D2C-9FE5-4ACB-9C25-4F55AF65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7E4-10B7-45F4-AA13-9DE672C5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199F-A404-495E-8CD4-2A0746E0B2B3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F0B-57BA-4470-9D89-0242653D059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0"/>
            <a:ext cx="89154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101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充滿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理聖靈在我心中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自由運行作善工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發出亮光照耀啟示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使我識主並自己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762120"/>
            <a:ext cx="89154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，充滿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今來充滿我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榮耀聖靈今充滿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願主現今充滿我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762120"/>
            <a:ext cx="867564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將我器皿完全倒空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污穢渣質除乾淨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用主言語使我成聖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平安喜樂常得勝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762120"/>
            <a:ext cx="89154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，充滿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今來充滿我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榮耀聖靈今充滿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願主現今充滿我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609480"/>
            <a:ext cx="867564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有如渴鹿愛慕溪水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心渴慕主恩惠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活水江河願主湧起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自我心中流不息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85800"/>
            <a:ext cx="89154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，充滿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今來充滿我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榮耀聖靈今充滿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願主現今充滿我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457200"/>
            <a:ext cx="83707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不是倚靠勢力才能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惟獨仰賴活聖靈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心眼光明靈耳開通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聖潔器皿合主用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609480"/>
            <a:ext cx="87631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，充滿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今來充滿我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榮耀聖靈今充滿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願主現今充滿我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7-03-17T07:01:02Z</dcterms:modified>
  <cp:revision>23</cp:revision>
  <dc:subject/>
  <dc:title>Slide 1</dc:title>
</cp:coreProperties>
</file>