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964-B5D7-4D0A-BCE3-156A6A0F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07D-86F0-4A89-8BDC-0E28E07E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F45-AC0D-43A4-8669-36732066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B29-4020-4AD0-A6EF-3D1AECED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9B37-E622-406C-A35C-76E72912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8241-E677-4C02-AFC1-4C6F34AA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AB8E1-D6BA-4486-AB35-2D53848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DFF85-5F07-44D3-9BFE-30FB21CC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E8352-7148-4A97-8CB4-336EC115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22B14-134E-4EB6-9341-49D5B337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F54A-5C16-47E7-8521-0A3977B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5FA-310D-49AA-B8A6-18B8057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24A0F-A1F6-4987-B37A-B6F2B2D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B7994-29B2-4B1A-AE4F-0DAC2F1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C871-7055-437A-B237-3898FD6C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20B8B-320F-4BA3-8ED2-DA0F7DD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ACBB3-8003-4B09-A60D-A4B3D52B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B88-A854-489A-9F9F-66A79DD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A23-13C0-484D-B49F-E6B614E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CB9-215E-4A9B-86BE-BADF562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275-7B5C-4581-8035-F7B1992B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965-7A3F-46C3-A6F2-46E8F37F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D44-E02F-48BE-BC1A-93C4AEE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45C-6E13-4098-85B9-13157D7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5CD-C7AD-419C-8269-0F63F9C6E8F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2E7-0D78-421B-9A9C-0B110AE38F8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7564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75 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奇異恩典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 何等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罪已得赦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前我失喪 今被尋回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瞎眼今得看見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如此恩典 使我敬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得安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初信之時 我蒙恩惠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是何等寶貴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救主應許 愛我真切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今得盼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主是盾牌 是我產業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是我生命保障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4. </a:t>
            </a: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歷盡艱險 勞苦奔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今來到主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全靠主恩 扶持保佑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恩典帶進永久</a:t>
            </a: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5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住在天家 千萬年世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如日無限光亮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時時頌讚 永不止息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仍像凱歌初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4-22T01:27:40Z</dcterms:modified>
  <cp:revision>22</cp:revision>
  <dc:subject/>
  <dc:title>Slide 1</dc:title>
</cp:coreProperties>
</file>