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253-1844-4A56-89A9-9AA60859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865-9D9A-4B08-ADC5-610FC32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78E-0882-43EF-B5EA-67661C85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1DF-A3D5-480D-B053-D0C8E52C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821A1-5FBE-40D4-9D89-81084CB6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57EED-3B31-4A05-85AB-CC4B181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AE87B-98DE-4DBB-9173-8A9A697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CAF6-CCB0-45C5-9611-1C364B3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66E99-78A0-4639-A764-4A3EBA22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11CB5-FC80-4403-B1EA-3DB4DDF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B4173-267A-4DBB-BA4C-306B1738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484-CB16-4C7A-A28F-3D44DA7E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85C29-637F-4354-9080-DE1BF73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2DC5-1DE2-444B-B954-F1B31A5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3E32A-24DA-444F-94A5-7CC6CD2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A2EEB-78FC-4F9B-A1A9-46E606C3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C3B2F-24C1-493A-91AC-BA3A7C83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D80-1EF5-4BD4-9A11-DA6B055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DF6-3A66-4E88-A105-E4CCD45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654-3FA8-4806-AB4A-A3BAD316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018-D2AE-4CE1-B9BC-3D21A402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DAD-3902-4584-A44B-C274605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16D-3180-4139-9CE2-064DDC3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2A1-A7BA-48BC-9FAC-0B1BDD80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94B0-B01C-4593-9447-129FC920EECC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98E6-2A15-4B65-A2B2-31B253E4796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47560"/>
            <a:ext cx="9144000" cy="72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46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1.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任遭何事不要驚怕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必將你藏祂恩翅下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219320"/>
            <a:ext cx="91440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buClr>
                <a:srgbClr val="ffffff"/>
              </a:buClr>
              <a:buFont typeface="標楷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有時勞苦心中失望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危險臨到無處躲藏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4300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你雖缺乏祂是豐富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你受試煉祂必開路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21932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無論遇見何等試煉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軟弱困倦靠祂胸前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天父必看顧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12-02T09:41:58Z</dcterms:modified>
  <cp:revision>29</cp:revision>
  <dc:subject/>
  <dc:title>Slide 1</dc:title>
</cp:coreProperties>
</file>