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8F2-4160-4358-B197-52CD4DCD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9AA-D409-47FD-8CCE-31D58B00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FC0-A52C-438A-A052-370505B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1D1-13D6-4791-A4F6-52CE3AB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15F-6EE6-4064-9CEE-56A1DB72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8DC-C4E5-4B52-BA03-5CF3313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2FA-DDA1-4E72-843E-F54E4BC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A1D-837B-4ED1-9623-0B276AFA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34A-D144-48FC-B0D0-6A1930F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D27-8A1C-4D2E-86E2-B0442A90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880-E590-43B6-939B-2F16BB6D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7EA-1CE3-4E35-9558-D24400FB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66040" y="457200"/>
            <a:ext cx="458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D10E-355A-43F6-8B27-C236439D144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89042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14  </a:t>
            </a:r>
            <a:r>
              <a:rPr b="1" lang="zh-TW" sz="4000" spc="-1" strike="noStrike" u="sng">
                <a:solidFill>
                  <a:srgbClr val="ffff00"/>
                </a:solidFill>
                <a:uFillTx/>
                <a:latin typeface="標楷體"/>
                <a:ea typeface="標楷體"/>
              </a:rPr>
              <a:t>真神之愛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真神之愛，偉大無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口舌筆墨，難以形容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高超諸星，深達地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長闊高深，世無相同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始祖犯罪，墮入引誘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神遣愛子拯救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使我罪人，與神和好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赦免一切罪尤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新細明體"/>
                <a:ea typeface="新細明體"/>
              </a:rPr>
              <a:t>*</a:t>
            </a: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啊！神之愛，何等豐富，偉大無限無量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永遠堅定，永遠不變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天使聖徒頌揚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世事滄桑，變幻無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君王帝位，轉眼即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世人如今，拒絕真神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他日遇難，呼山求石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但神慈愛，永存不變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偉大無限無量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向人所顯，救贖恩典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聖徒天使頌揚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新細明體"/>
                <a:ea typeface="新細明體"/>
              </a:rPr>
              <a:t>*</a:t>
            </a: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啊！神之愛，何等豐富，偉大無限無量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永遠堅定，永遠不變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</a:rPr>
              <a:t>天使聖徒頌揚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8991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.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天上諸天，當為紙張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地下萬莖，當為筆桿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世上海洋，當為墨水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全球文人，集合苦幹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耗盡智力，描寫神愛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海洋墨水會乾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案卷雖長，如天連天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仍難表達透暢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*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啊！神之愛，何等豐富，偉大無限無量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永遠堅定，永遠不變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天使聖徒頌揚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9-01-02T02:46:57Z</dcterms:modified>
  <cp:revision>19</cp:revision>
  <dc:subject/>
  <dc:title>Slide 1</dc:title>
</cp:coreProperties>
</file>