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6A9-A764-4CA8-9168-FB58B6D6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AE7-7F5C-4714-B1E0-31452C7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B4A-9661-4A40-9EA7-3ACBA1FC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BA6-AB0E-4352-8EA4-D779B0B1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171-B140-44C0-A9FE-B755BAC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F86-A74A-48A4-B8BB-68AD383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CFB-29B6-4337-96D8-E279C58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95B-271A-4640-B657-9912CF1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373-FDD5-4DE2-8FF7-9DE83EA5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07B-45F1-4605-9570-BF89787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D2D-1E27-4D3D-A762-3767542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7A8-95EA-4ED6-9180-D3E0A8DA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48E-991A-4C1E-B507-C133E37C0E4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61320"/>
            <a:ext cx="91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 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</a:t>
            </a: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</a:t>
            </a:r>
            <a:r>
              <a:rPr b="0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祢真偉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1.</a:t>
            </a: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主啊我神！我每逢舉目觀看，祢手所造一切奇妙大工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看見星宿，又聽到隆隆雷聲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祢的大工遍滿了宇宙中。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8280" y="-15120"/>
            <a:ext cx="5118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副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96720" y="600480"/>
            <a:ext cx="1008036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2.</a:t>
            </a: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當我想到，神竟願差祂兒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降世捨命，我幾乎不領會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主在十架，甘願背我的重擔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流血捨身為要赦免我罪。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98280" y="-15120"/>
            <a:ext cx="5118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副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811080" cy="762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0040" y="84960"/>
            <a:ext cx="58132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3.</a:t>
            </a: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當主再來，歡呼聲響徹天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何等喜樂，主接我回天家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我要跪下，謙躬的崇拜敬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標楷體"/>
                <a:ea typeface="標楷體"/>
              </a:rPr>
              <a:t>並要頌揚，神啊祢真偉大！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98280" y="-15120"/>
            <a:ext cx="5118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副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我靈歌唱，讚美救主我神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cc"/>
                </a:solidFill>
                <a:latin typeface="Arial"/>
                <a:ea typeface="標楷體"/>
              </a:rPr>
              <a:t>祢真偉大，何等偉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05:00:37Z</dcterms:created>
  <dc:creator>USER</dc:creator>
  <dc:description/>
  <dc:language>en-US</dc:language>
  <cp:lastModifiedBy>USER</cp:lastModifiedBy>
  <dcterms:modified xsi:type="dcterms:W3CDTF">2007-12-02T02:13:34Z</dcterms:modified>
  <cp:revision>4</cp:revision>
  <dc:subject/>
  <dc:title>投影片 1</dc:title>
</cp:coreProperties>
</file>