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4EF-D827-42F1-A68A-A91D864B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2A1-9098-42BE-B928-9F88695F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BA2-CA21-41F5-8D0E-7B7576C8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635-537A-48B8-B03F-ED22593C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8702-0BCC-464B-958F-7322D594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5C09-1E63-46E6-BDA6-C0A742D9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8D7-F09F-4458-A408-DB7DD673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E26-630D-47EE-9EF3-457F8BE9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753-8625-4A15-98E4-71932500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33D6-E892-46AC-894F-19EB51DB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019-448F-4931-B862-CA6E6A5C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03C-602A-46BA-9871-99654863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7F91-31B8-4188-B89F-27286314535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466920"/>
            <a:ext cx="9648720" cy="55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0456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盡情的敬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  <a:ea typeface="標楷體"/>
              </a:rPr>
              <a:t>耶穌 聖潔公義救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  <a:ea typeface="標楷體"/>
              </a:rPr>
              <a:t>彰顯神的智慧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  <a:ea typeface="標楷體"/>
              </a:rPr>
              <a:t>祢的愛是何等長闊高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  <a:ea typeface="標楷體"/>
              </a:rPr>
              <a:t>滿有豐富無窮的恩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52360" y="447480"/>
            <a:ext cx="9648720" cy="59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04560" anchor="ctr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耶穌 權柄統管萬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配得 榮耀 尊貴 頌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我以心靈誠實盡情敬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坐在寶座上深愛我的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舉起我的心來敬拜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用生命來回應祢的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哦 </a:t>
            </a: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! </a:t>
            </a: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我的主 讓我單單在乎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盡情地敬拜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03:10:13Z</dcterms:created>
  <dc:creator>USER</dc:creator>
  <dc:description/>
  <dc:language>en-US</dc:language>
  <cp:lastModifiedBy>Amy</cp:lastModifiedBy>
  <dcterms:modified xsi:type="dcterms:W3CDTF">2009-07-03T19:54:22Z</dcterms:modified>
  <cp:revision>35</cp:revision>
  <dc:subject/>
  <dc:title>投影片 1</dc:title>
</cp:coreProperties>
</file>