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B3035-CC51-4F55-AFEE-84322EF2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429BC-365F-4CD5-AEE7-AE1010F1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71519-1B12-41D0-9D44-1F93E4DA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B490D-9BF7-4BEF-9CDB-7AB38875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61DC-C8D2-4A3A-824C-35E32A3F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E59B-7EAA-41EF-9905-0378E2FB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E345-D5E6-462C-8AAA-01749A25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FB0A-2807-44B3-A01E-029C5551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95BE-3EC6-4CCC-B261-FE46119A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F459-214F-4948-85F7-A68AA0DE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730B-026D-4803-AA06-28B72850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F2A3D-4F67-48F3-BCA6-1EE364A0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2EFD-4F0A-48D5-A3B9-AA61DD5F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5CF7-63E3-4327-A279-B8B2D146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758D-4CAA-48DE-8E06-7F9C8BEE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058B-58E7-4486-8929-DFBCA165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3713-8430-4F75-BC88-D2196D85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BA238-549F-4AF6-A648-1A44F408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17FC5-D4AA-491E-8D26-26C50773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C6D88-5D92-4AAA-8802-0CB2BE88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DE6E0-F944-4462-A19E-A7860151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9F99E-D079-4D47-A8F8-11838AD2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4E311-D58C-457A-8800-9CA68929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6A266-B6BC-436C-8A96-3C381779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B104-D901-4931-80AD-4A35D5BC1B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74B1-A258-44BA-BE48-1C15136CF5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田 中 的 白 鷺 絲</a:t>
            </a: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,  </a:t>
            </a: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無 欠 缺 什 麼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Birds in the blue sky,  Soaring with their win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山 頂 的 百 合 花 </a:t>
            </a: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春 天 現 香 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Lilies on the hill side,  Blossoming with their smil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總 是 全 能 的 上 帝</a:t>
            </a: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, </a:t>
            </a:r>
            <a:r>
              <a:rPr b="1" lang="zh-TW" sz="2400" spc="-1" strike="noStrike">
                <a:solidFill>
                  <a:srgbClr val="ffffff"/>
                </a:solidFill>
                <a:latin typeface="Futura Lt BT"/>
                <a:ea typeface="新細明體"/>
              </a:rPr>
              <a:t> </a:t>
            </a:r>
            <a:r>
              <a:rPr b="1" lang="zh-TW" sz="2400" spc="-1" strike="noStrike">
                <a:solidFill>
                  <a:srgbClr val="ffffff"/>
                </a:solidFill>
                <a:latin typeface="Futura Lt BT"/>
                <a:ea typeface="新細明體"/>
              </a:rPr>
              <a:t>每 日 賞 賜 真 福 氣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Telling power of almighty God,  Blessing with daily bre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使 地 上 發 芽 結 實</a:t>
            </a: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,  </a:t>
            </a: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顯 出 疼 愛 的 根 據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Granting with harvest, Showing His unfailing lo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553120" y="152280"/>
            <a:ext cx="3701160" cy="856080"/>
            <a:chOff x="2553120" y="152280"/>
            <a:chExt cx="3701160" cy="856080"/>
          </a:xfrm>
        </p:grpSpPr>
        <p:sp>
          <p:nvSpPr>
            <p:cNvPr id="101" name=""/>
            <p:cNvSpPr/>
            <p:nvPr/>
          </p:nvSpPr>
          <p:spPr>
            <a:xfrm>
              <a:off x="2594160" y="152280"/>
              <a:ext cx="3592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cc00"/>
                  </a:solidFill>
                  <a:latin typeface="Garamond"/>
                </a:rPr>
                <a:t>満満福祝華和耶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53120" y="609480"/>
              <a:ext cx="370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Futura Lt BT"/>
                </a:rPr>
                <a:t>Johovah’s Blessings Aboun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90360" y="9903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耶 和 華 祝 福 滿 滿</a:t>
            </a: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,  </a:t>
            </a: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就 像 海 邊 土 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Blessings overflow my cup,  More than sands in the sea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恩 典 慈 愛 直 到 萬 世 代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Abundant grace and love till gener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我 要 舉 手 敬 拜 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I lift up my hands to Him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出 歡 喜 的 歌 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Singing joyful thank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讚 美 稱 頌 祂 名 永 無 息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 Lt BT"/>
              </a:rPr>
              <a:t>Praise be to Jehovah forever mor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553120" y="152280"/>
            <a:ext cx="3701160" cy="856080"/>
            <a:chOff x="2553120" y="152280"/>
            <a:chExt cx="3701160" cy="856080"/>
          </a:xfrm>
        </p:grpSpPr>
        <p:sp>
          <p:nvSpPr>
            <p:cNvPr id="105" name=""/>
            <p:cNvSpPr/>
            <p:nvPr/>
          </p:nvSpPr>
          <p:spPr>
            <a:xfrm>
              <a:off x="2594160" y="152280"/>
              <a:ext cx="3592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cc00"/>
                  </a:solidFill>
                  <a:latin typeface="Garamond"/>
                </a:rPr>
                <a:t>満満福祝華和耶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53120" y="609480"/>
              <a:ext cx="370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Futura Lt BT"/>
                </a:rPr>
                <a:t>Johovah’s Blessings Aboun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1:06:23Z</dcterms:created>
  <dc:creator> </dc:creator>
  <dc:description/>
  <dc:language>en-US</dc:language>
  <cp:lastModifiedBy>chris</cp:lastModifiedBy>
  <dcterms:modified xsi:type="dcterms:W3CDTF">2009-04-01T06:31:40Z</dcterms:modified>
  <cp:revision>4</cp:revision>
  <dc:subject/>
  <dc:title>耶和華祝福滿滿 (1/2) [Jehovah’s Blessings Abound]</dc:title>
</cp:coreProperties>
</file>