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B82-AD9D-4330-A78A-4BD9D0C3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386-C4BE-4A19-9C2D-92D677BF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227-10FB-4B08-A2A4-E21A62C0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48A-8D6F-42E8-AD7E-B922DB0E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1C65F-E163-446C-9894-EC7A9BA9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09387-CB7E-41D4-8CB9-4290BBF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0D45C-A13E-49F7-A1A6-C89AE726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3E490-B75D-4127-9B9E-3E45A83C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D326B-E500-43D5-80CE-4108616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67FBE-FC3E-4563-A3AC-F0FB7C96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2A549-3C9F-4675-86AE-18E4CFC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7E6-99CD-4DF7-B531-D06309F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2D89D-AA0D-4925-B464-929BF83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79A36-00E0-4A14-B69E-953F0FC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7F57-C703-4516-885D-6516CB7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3E96-65B2-4D52-9CE4-2927895D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54501-5060-4F1C-9E50-22D4CCC4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FFD-D4ED-47B3-A486-5089B69E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1F6-14EA-4602-BA48-38C59D5D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AB5-A74E-4129-8497-A280050F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01B-140D-4F3F-BB92-A132874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86D-7D32-4D42-9049-B0675918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698-C006-4B92-B270-116BD05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DEB-40A2-4282-A4F9-9FA9CCF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F9A-4F3D-48B2-BA85-C7B17341882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F74A-6BD6-427C-87F0-C48B222A4C2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0"/>
            <a:ext cx="867564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353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0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親近</a:t>
            </a:r>
            <a:r>
              <a:rPr b="0" lang="en-US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,</a:t>
            </a:r>
            <a:r>
              <a:rPr b="0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更親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親近　更親近　親近主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親愛救主吸引我更親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願在主懷中　與主相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在主慈愛保護中享安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在主慈愛保護中享安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09480"/>
            <a:ext cx="83818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親近　更親近　親近我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一無所有獻給主耶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今獻我憂傷　痛悔心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求主用寶血將我罪洗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求主用寶血將我罪洗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09480"/>
            <a:ext cx="83818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親近　更親近　終生親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直到進入榮耀裡享安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一直到永遠　永無止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親近我救主與主更親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親近我救主與主更親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7-03-31T20:34:05Z</dcterms:modified>
  <cp:revision>25</cp:revision>
  <dc:subject/>
  <dc:title>Slide 1</dc:title>
</cp:coreProperties>
</file>