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80F-21F7-4C68-AED8-4B249CBF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767-D9DD-4B78-96B2-2C7030C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7DA-F654-4677-B7A2-85569D01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F5E-E627-4615-8661-184AA32A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4860E-E013-4C7D-95D4-3E4A522E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A396B-D311-4EAC-9FD9-8D552A79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D18E0-9541-4D72-B8BB-AEE97C52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D3B53-1FDF-4866-A6DD-72A62EE6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F6099-77E7-4896-8EDC-2979CD0A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CA0A3-B720-479E-B2E6-DE94332E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1A11B-6C06-4F88-B8F8-E8ED2965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27B-1B76-4521-949B-13AF479A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1BEC1-49FC-45AA-A042-DBA975D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BD1AC-76AE-4C84-A252-AF06571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C18C8-EB70-49A5-B1FE-DFBB4FE3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C0F43-CABA-4EF7-96F5-5313B0F5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95A74-C41C-414D-B9D7-F5E0F52A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2586-164E-4417-8591-205B1DB4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CC58-03A7-42D1-AB92-A4A3C1B5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13BA-4F5A-4233-A74F-A0092AEA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5BB15-8396-40C6-9E73-F3AF934F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D23A-0120-4508-B9F4-AD2496CE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BD2-70DA-4F9E-9C1F-B665086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F34B-0277-46D0-B7C9-1C7E1E33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683C-15AE-402A-BDCE-7849A70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7B4C-4F79-4C38-BD13-237670D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3779-208D-44DF-9820-1C79A8F7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506C-7E96-4034-BFA8-5BBD147B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2E21-F50F-4A79-9CE2-373CE751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9F49-7CB6-4CB5-9A6D-D9A79068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9699C-1225-4725-91E4-7C906610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01AA7-2352-4F86-8C68-4F563F3E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8E361-BA1E-46FD-9176-C09E3492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1CB-58F8-4E71-8E8F-0B47B5DB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F0C6B-A0CF-464D-9972-E1B095DB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14248-4072-47F5-9E12-F713F460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684B0-C991-452E-9781-13D09787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C10A0-411F-4A39-8E24-966D6B08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8A985-5246-44C7-AF8F-2BE937C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8CDE6-6333-42C1-BFC1-04A9018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BF688-B62D-4297-82D1-2BC35E49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D3F54-3263-40D3-90AE-479E249A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F9401-FDDA-4FCE-B24D-C6E6F8AE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194-35AB-4149-92F2-DCD90C35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EFA-15E6-4F6F-A85E-B257F13F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DA2-9C9A-491A-8A4D-98F3F18D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F8B-A274-4DC4-A14B-1C3326F2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D5D-E0C7-411E-A90F-6B2C6228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3F16-21F7-45BC-A945-B9C3ABB2451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1791-1027-4A83-A891-998E8859FF5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8467-5C90-4D54-ADB6-273B0E5F295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AE6D-3FF0-40EB-8DA9-A149F9067259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72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108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來讚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基督降生伯利恒 哈利路亞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神愛子道成肉身 哈利路亞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降生成為一嬰孩 哈利路亞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屬世界但不敗壞 哈利路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來讚美救主我王 哈利路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來讚美救主我王 哈利路亞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280" y="0"/>
            <a:ext cx="91440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成為人子受勞苦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以愛尋人得救贖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完成天父的旨意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滿有恩典與真理 哈利路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來讚美救主我王 哈利路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來讚美救主我王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0"/>
            <a:ext cx="91440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救主捨命各各他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從死復活回父家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寶血流出賜世人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世人因此蒙神恩 哈利路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來讚美救主我王 哈利路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來讚美救主我王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280" y="0"/>
            <a:ext cx="91440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能洗清我罪污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只要全心信靠主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那日必與主相見 哈利路亞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遠同住在高天 哈利路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來讚美救主我王 哈利路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來讚美救主我王 哈利路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7-12-02T02:12:26Z</dcterms:modified>
  <cp:revision>31</cp:revision>
  <dc:subject/>
  <dc:title>Slide 1</dc:title>
</cp:coreProperties>
</file>